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C1F-7CCA-462C-B2FA-8BEF9349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D127-5F26-4CAE-98AE-DF424AF5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91B-008F-4560-9852-2247111C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FE0-FB4C-456E-82EB-201E82DE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51DF7-42E1-41F9-BD21-FD15D86209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17E4B-BDD8-45C2-8060-1524CB3933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60989-6B7A-441A-AC59-55F02B76BF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8A37D-50F7-462D-954D-2A5371198C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3B421-FAA9-49C1-A9EB-6DC0FAE880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63487-9670-4598-8CAA-BEAA7ED39D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A81A1-9865-4936-85B7-262754FAD0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530F-9CF4-491F-A9F8-04C4035F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0A37A-9C42-4A76-BCE4-4F739307CB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EC1BF-1D07-428B-A974-957106DC6E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D3640-C078-4E57-9433-BC866F9565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1F80C-D634-4FA7-BE8F-97D93802BA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3A53B-9778-4664-8FDE-2F750987DD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B23-DE40-414C-A467-4C7574DD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1F1E-6058-48CD-93AD-290B48DA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63F-A178-4FBA-8266-D3F18D00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BBF-A5AD-40CD-951C-1DFB4195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A5F9-C0BF-40F7-9CDC-688612CF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CD1-33E3-440A-9C5B-647754CF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452-D6D2-4123-A745-25930B8D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02D6-280F-42F2-8209-CDCBF43E4B60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EF44-96F9-45FF-A84A-A582802BEDB5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Resolução de Problemas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Parte V - Adicion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ng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85808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16A7-3DA9-4EB1-AF7D-42BFE9E01E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rcício: Problemas de Satisf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EC29-75A9-4030-AFB1-384DD58A79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va o problema criptoaritmético abaixo, utilizando retrocess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verificação prévi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e as heurísticas de variável mais restritiva  e mais restring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 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 O U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4437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59280" y="4869000"/>
                <a:ext cx="3360960" cy="17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924360" y="341316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riávei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, T, U, R, O, X1, X2, 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s: {0, 1, 2, 3, 4, 5, 6 7, 8, 9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tri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75F5-DBE3-4B18-9197-85CC40808D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804080" cy="3103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Backtra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115-E7AC-430E-B981-952DA75820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1640" y="189000"/>
            <a:ext cx="8172360" cy="6335280"/>
            <a:chOff x="971640" y="189000"/>
            <a:chExt cx="8172360" cy="6335280"/>
          </a:xfrm>
        </p:grpSpPr>
        <p:sp>
          <p:nvSpPr>
            <p:cNvPr id="117" name=""/>
            <p:cNvSpPr/>
            <p:nvPr/>
          </p:nvSpPr>
          <p:spPr>
            <a:xfrm>
              <a:off x="971640" y="189000"/>
              <a:ext cx="37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Verdana"/>
                </a:rPr>
                <a:t>Backtrack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187280" y="1077840"/>
              <a:ext cx="7956720" cy="5446440"/>
              <a:chOff x="1187280" y="1077840"/>
              <a:chExt cx="7956720" cy="5446440"/>
            </a:xfrm>
          </p:grpSpPr>
          <p:pic>
            <p:nvPicPr>
              <p:cNvPr id="1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077840"/>
                <a:ext cx="6029640" cy="3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00240" y="1438200"/>
                <a:ext cx="7943760" cy="5086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"/>
            <p:cNvSpPr/>
            <p:nvPr/>
          </p:nvSpPr>
          <p:spPr>
            <a:xfrm>
              <a:off x="7667640" y="620640"/>
              <a:ext cx="79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43280" y="1052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43280" y="1413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3280" y="1628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3280" y="1844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3280" y="2448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3280" y="2232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2060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328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3280" y="3357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CAD7-44BD-4C9A-B3CE-3C10BD5105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628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Forward che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7956720" cy="189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5D8C-EA05-46A2-BE01-561FEEF6F5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765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00000" y="1413000"/>
            <a:ext cx="8258400" cy="4860720"/>
            <a:chOff x="900000" y="1413000"/>
            <a:chExt cx="8258400" cy="48607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1042920" y="1413000"/>
              <a:ext cx="7915320" cy="31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900000" y="4797360"/>
              <a:ext cx="82584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4836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48360" y="3141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48360" y="3384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8360" y="3573360"/>
              <a:ext cx="1584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4000" y="3645000"/>
              <a:ext cx="11527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D55D-6FDC-4B1E-9200-0C7AF18006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62064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601" t="0" r="3801" b="52635"/>
          <a:stretch/>
        </p:blipFill>
        <p:spPr>
          <a:xfrm>
            <a:off x="971640" y="1989000"/>
            <a:ext cx="806436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4932360" y="4149720"/>
            <a:ext cx="1584360" cy="1366920"/>
            <a:chOff x="4932360" y="4149720"/>
            <a:chExt cx="1584360" cy="1366920"/>
          </a:xfrm>
        </p:grpSpPr>
        <p:sp>
          <p:nvSpPr>
            <p:cNvPr id="148" name=""/>
            <p:cNvSpPr/>
            <p:nvPr/>
          </p:nvSpPr>
          <p:spPr>
            <a:xfrm>
              <a:off x="4932360" y="4149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32360" y="4338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32360" y="45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32360" y="4770360"/>
              <a:ext cx="1584360" cy="74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48360" y="4842000"/>
              <a:ext cx="115236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F65A-3417-4AC6-91B0-67BDF96857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549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116000" y="1844640"/>
            <a:ext cx="8028000" cy="4160880"/>
            <a:chOff x="1116000" y="1844640"/>
            <a:chExt cx="8028000" cy="4160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rcRect l="5828" t="47370" r="0" b="0"/>
            <a:stretch/>
          </p:blipFill>
          <p:spPr>
            <a:xfrm>
              <a:off x="1116000" y="1844640"/>
              <a:ext cx="8028000" cy="41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716360" y="2421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16360" y="27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C4D7-4F7E-4201-B23E-4B9F94CFEA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8-07T17:10:54Z</dcterms:modified>
  <cp:revision>53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