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735-7769-4EF8-85F3-F736C7E3A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FA14-C38A-4239-8162-84CE40784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F527-0392-4EAE-BACD-202A47F3C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28D2-31E7-4529-9F2C-25F49EA6B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DCC2DE-A7A8-42DB-AC69-D7FFDAF4B7A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63EA52-A78F-4216-AC19-AE400985F1F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EBAF7-AF39-4FEF-B455-F23799A916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78F95B-0518-4F7C-AFFD-55F4A88938E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A14AB4-8FC0-4AAC-91F7-3D73D60C97F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F6E3C-3129-43CE-8D3B-AC90B2894D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9DFFAF-156D-4F3D-9C85-0DD2B09F14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3B59-8EF8-4543-A149-F39B092A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7B0E45-2BF9-46FA-B613-FE73C7D81D7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F57CF-11F1-4701-B267-CDA9B43C824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2FE95-2714-43C8-A1F1-AB9858B555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BE466-0C5E-4090-8F3E-FBD8BF3830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5A937F-B5F8-4B25-B768-5445EFBAA6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4AE8-FC47-4890-B67C-50F17D36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76B-CBEF-4978-BCBC-95499C93C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90E-5AD6-4226-814C-D802C58E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116B-4B61-462F-9036-7E08181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3E91-879B-4B0F-886A-A3C4370A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9621-B39E-49FF-A779-4AC3AF326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522-FA08-433C-973E-FAACB6A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0" y="-27000"/>
          <a:ext cx="90000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90000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00470-EC49-44D2-8468-71A6E44D0401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34920" y="6165720"/>
            <a:ext cx="720720" cy="620640"/>
            <a:chOff x="34920" y="6165720"/>
            <a:chExt cx="720720" cy="620640"/>
          </a:xfrm>
        </p:grpSpPr>
        <p:sp>
          <p:nvSpPr>
            <p:cNvPr id="9" name=""/>
            <p:cNvSpPr/>
            <p:nvPr/>
          </p:nvSpPr>
          <p:spPr>
            <a:xfrm>
              <a:off x="3492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2580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6948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2832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7020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-27000"/>
          <a:ext cx="2355840" cy="688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27000"/>
                    <a:ext cx="2355840" cy="68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E3A6C-04AF-4B1C-8AB7-D5E9C27FAD22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692360" y="6337080"/>
            <a:ext cx="576000" cy="476640"/>
            <a:chOff x="1692360" y="6337080"/>
            <a:chExt cx="576000" cy="476640"/>
          </a:xfrm>
        </p:grpSpPr>
        <p:sp>
          <p:nvSpPr>
            <p:cNvPr id="58" name=""/>
            <p:cNvSpPr/>
            <p:nvPr/>
          </p:nvSpPr>
          <p:spPr>
            <a:xfrm>
              <a:off x="1692360" y="67186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24920" y="64882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1719360" y="63367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6720" y="64954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 flipV="1">
              <a:off x="1720800" y="63442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700000" y="2179440"/>
            <a:ext cx="604836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Resolução de Problemas  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Tahoma"/>
              </a:rPr>
              <a:t>(Parte V - Adicional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-3083400" y="3307320"/>
            <a:ext cx="64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Figura: Capa do Livro Hamburger, H., Richards, D. </a:t>
            </a:r>
            <a:r>
              <a:rPr b="1" i="1" lang="pt-BR" sz="800" spc="-1" strike="noStrike">
                <a:solidFill>
                  <a:srgbClr val="000000"/>
                </a:solidFill>
                <a:latin typeface="Verdana"/>
              </a:rPr>
              <a:t>Logic and Language Models for Computer Science</a:t>
            </a:r>
            <a:r>
              <a:rPr b="0" lang="pt-BR" sz="800" spc="-1" strike="noStrike">
                <a:solidFill>
                  <a:srgbClr val="000000"/>
                </a:solidFill>
                <a:latin typeface="Verdana"/>
              </a:rPr>
              <a:t>, Prentice Hall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ngi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7858080" cy="342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8A8FF-4648-4F2A-A319-CE80E869D46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Em Busca de Soluçõ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rcício: Problemas de Satisfação de Restri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E8D-E502-4624-9D31-8D88C8583E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15640" y="1773000"/>
            <a:ext cx="748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va o problema criptoaritmético abaixo, utilizando retrocesso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backtra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verificação prévia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orward chec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e as heurísticas de variável mais restritiva  e mais restring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 T  W  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O U 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4437000"/>
            <a:ext cx="18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859280" y="4869000"/>
                <a:ext cx="3360960" cy="17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t xml:space="preserve">O</m:t>
                        </m:r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t xml:space="preserve">U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O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∗</m:t>
                        </m:r>
                        <m:r>
                          <m:t xml:space="preserve">X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3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3924360" y="3413160"/>
            <a:ext cx="5184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Variáveis: </a:t>
            </a:r>
            <a:r>
              <a:rPr b="0" i="1" lang="pt-BR" sz="2000" spc="-1" strike="noStrike">
                <a:solidFill>
                  <a:srgbClr val="000000"/>
                </a:solidFill>
                <a:latin typeface="Verdana"/>
              </a:rPr>
              <a:t>F, T, U, R, O, X1, X2, 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Domínios: {0, 1, 2, 3, 4, 5, 6 7, 8, 9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striçõ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C20-F596-4614-8D90-EDC494B6AD6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Constraint Satisfaction Problems</a:t>
            </a:r>
            <a:br>
              <a:rPr sz="3200"/>
            </a:br>
            <a:r>
              <a:rPr b="1" i="1" lang="pt-BR" sz="3200" spc="-1" strike="noStrike">
                <a:solidFill>
                  <a:srgbClr val="000000"/>
                </a:solidFill>
                <a:latin typeface="Verdana"/>
              </a:rPr>
              <a:t>(CSP)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804080" cy="31035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187280" y="17002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Backtra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724A-ABFB-4752-9E35-B263BC786BF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971640" y="189000"/>
            <a:ext cx="8172360" cy="6335280"/>
            <a:chOff x="971640" y="189000"/>
            <a:chExt cx="8172360" cy="6335280"/>
          </a:xfrm>
        </p:grpSpPr>
        <p:sp>
          <p:nvSpPr>
            <p:cNvPr id="117" name=""/>
            <p:cNvSpPr/>
            <p:nvPr/>
          </p:nvSpPr>
          <p:spPr>
            <a:xfrm>
              <a:off x="971640" y="189000"/>
              <a:ext cx="374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1800" spc="-1" strike="noStrike">
                  <a:solidFill>
                    <a:srgbClr val="000000"/>
                  </a:solidFill>
                  <a:latin typeface="Verdana"/>
                </a:rPr>
                <a:t>Backtracki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1187280" y="1077840"/>
              <a:ext cx="7956720" cy="5446440"/>
              <a:chOff x="1187280" y="1077840"/>
              <a:chExt cx="7956720" cy="544644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1077840"/>
                <a:ext cx="6029640" cy="342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200240" y="1438200"/>
                <a:ext cx="7943760" cy="50860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1" name=""/>
            <p:cNvSpPr/>
            <p:nvPr/>
          </p:nvSpPr>
          <p:spPr>
            <a:xfrm>
              <a:off x="7667640" y="62064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43280" y="1052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43280" y="1413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3280" y="1628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43280" y="1844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643280" y="2448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643280" y="2232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643280" y="206064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64328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643280" y="3357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0303-01AB-4A2A-8D7D-D3885A0EC1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58920" y="162864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Forward check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7956720" cy="189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E2CF-FA7B-4203-A5E5-1591A3CCFD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42920" y="76500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900000" y="1413000"/>
            <a:ext cx="8258400" cy="4860720"/>
            <a:chOff x="900000" y="1413000"/>
            <a:chExt cx="8258400" cy="486072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1042920" y="1413000"/>
              <a:ext cx="7915320" cy="3152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900000" y="4797360"/>
              <a:ext cx="8258400" cy="14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148360" y="2952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48360" y="3141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48360" y="3384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8360" y="3573360"/>
              <a:ext cx="158436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4000" y="3645000"/>
              <a:ext cx="1152720" cy="83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8DF-8035-475A-9472-C6230078B2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42920" y="62064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1601" t="0" r="3801" b="52635"/>
          <a:stretch/>
        </p:blipFill>
        <p:spPr>
          <a:xfrm>
            <a:off x="971640" y="1989000"/>
            <a:ext cx="8064360" cy="3745080"/>
          </a:xfrm>
          <a:prstGeom prst="rect">
            <a:avLst/>
          </a:prstGeom>
          <a:ln w="0">
            <a:noFill/>
          </a:ln>
        </p:spPr>
      </p:pic>
      <p:grpSp>
        <p:nvGrpSpPr>
          <p:cNvPr id="147" name=""/>
          <p:cNvGrpSpPr/>
          <p:nvPr/>
        </p:nvGrpSpPr>
        <p:grpSpPr>
          <a:xfrm>
            <a:off x="4932360" y="4149720"/>
            <a:ext cx="1584360" cy="1366920"/>
            <a:chOff x="4932360" y="4149720"/>
            <a:chExt cx="1584360" cy="1366920"/>
          </a:xfrm>
        </p:grpSpPr>
        <p:sp>
          <p:nvSpPr>
            <p:cNvPr id="148" name=""/>
            <p:cNvSpPr/>
            <p:nvPr/>
          </p:nvSpPr>
          <p:spPr>
            <a:xfrm>
              <a:off x="4932360" y="4149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932360" y="433872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32360" y="45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32360" y="4770360"/>
              <a:ext cx="1584360" cy="74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48360" y="4842000"/>
              <a:ext cx="1152360" cy="53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Verdana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7B8-88EC-425F-A81B-78CFC12F3D5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16000" y="54936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000000"/>
                </a:solidFill>
                <a:latin typeface="Verdana"/>
              </a:rPr>
              <a:t>Variável mais restritiv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116000" y="1844640"/>
            <a:ext cx="8028000" cy="4160880"/>
            <a:chOff x="1116000" y="1844640"/>
            <a:chExt cx="8028000" cy="416088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rcRect l="5828" t="47370" r="0" b="0"/>
            <a:stretch/>
          </p:blipFill>
          <p:spPr>
            <a:xfrm>
              <a:off x="1116000" y="1844640"/>
              <a:ext cx="8028000" cy="41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4716360" y="242100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16360" y="2781360"/>
              <a:ext cx="158436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100" spc="-1" strike="noStrike">
                  <a:solidFill>
                    <a:srgbClr val="000000"/>
                  </a:solidFill>
                  <a:latin typeface="Arial"/>
                </a:rPr>
                <a:t>[O + O  =  R +  10*X1]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8C80-002B-4A84-BF55-626705EC70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7-08-07T17:10:54Z</dcterms:modified>
  <cp:revision>533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