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29BE-96A0-4B9C-98B3-4B72C47CF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D8DD-7520-4F2B-93E8-67D60CDE4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2738-C2CC-4666-A180-565AEB008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5309-03D3-4007-9F0E-55EFB3208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B52B9-4CBD-4A75-8F73-FA06834F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3EA1E-BEFF-4C16-847A-E2BFE55E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59B1A-3FC1-47B8-83B9-E78DF231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66BE7-36A5-4E89-B9DD-0DF7BF1C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E784C-62E7-40C0-B59C-B9AFE1C0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BBD9A-E88B-4F0B-87BF-A140D16E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11978-E825-4C0C-B291-BFA1FBD3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640E-43F4-4E32-B6C7-3507E8E4A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E14B2-FFA6-47A0-86CD-6C4028B1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B20EF-8F70-45E8-B556-AC01B800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AC955-6920-4262-AD13-1B49F8A3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0D930-0123-4288-97E3-9947E734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8A9F7-FA92-4FAC-973E-210FA93A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412A-32B6-48FD-938E-98D3756AA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9922-65AF-4878-A776-FE7551262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3C90-7EA0-4856-84CD-5BEA18AD8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5C46-9449-4DA9-A8A7-F4A79F9A9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A7D4-3B9E-4598-9CA9-0FB6C11D5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4F0E-31F5-4DA7-B009-B3F13718B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3804-6BCA-4454-9BEE-BBF970D33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9C43-5C8A-4C5D-949A-107CFF63CF49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44280" y="4724280"/>
            <a:ext cx="1143000" cy="13446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250920" y="6093000"/>
            <a:ext cx="863640" cy="764640"/>
            <a:chOff x="250920" y="6093000"/>
            <a:chExt cx="863640" cy="764640"/>
          </a:xfrm>
        </p:grpSpPr>
        <p:sp>
          <p:nvSpPr>
            <p:cNvPr id="8" name=""/>
            <p:cNvSpPr/>
            <p:nvPr/>
          </p:nvSpPr>
          <p:spPr>
            <a:xfrm>
              <a:off x="250920" y="6705000"/>
              <a:ext cx="8636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9760" y="6335280"/>
              <a:ext cx="47160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92320" y="6093000"/>
              <a:ext cx="47016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02280" y="6346800"/>
              <a:ext cx="47124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292680" y="6104160"/>
              <a:ext cx="47268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3" name="" descr=""/>
          <p:cNvPicPr/>
          <p:nvPr/>
        </p:nvPicPr>
        <p:blipFill>
          <a:blip r:embed="rId5"/>
          <a:stretch/>
        </p:blipFill>
        <p:spPr>
          <a:xfrm>
            <a:off x="44280" y="25704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1187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1B1D-4D56-4F03-B33C-615E3693D3EC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1828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38200" y="6121080"/>
            <a:ext cx="865080" cy="692640"/>
            <a:chOff x="538200" y="6121080"/>
            <a:chExt cx="865080" cy="692640"/>
          </a:xfrm>
        </p:grpSpPr>
        <p:sp>
          <p:nvSpPr>
            <p:cNvPr id="60" name=""/>
            <p:cNvSpPr/>
            <p:nvPr/>
          </p:nvSpPr>
          <p:spPr>
            <a:xfrm>
              <a:off x="538200" y="6675480"/>
              <a:ext cx="865080" cy="1382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7400" y="6340680"/>
              <a:ext cx="47232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579960" y="6120720"/>
              <a:ext cx="470880" cy="304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90280" y="6351120"/>
              <a:ext cx="47196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580320" y="6131520"/>
              <a:ext cx="473400" cy="304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835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8000" y="177336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Hardware (Parte II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331640" y="207720"/>
            <a:ext cx="784836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âmetr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enor tempo de acesso, baixa capacidade (Ex.: 32 bits, 64 bits), dispositivos voláteis, memória de semicondutores, armazenamento temporário e apresenta o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is elevad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1332000" y="5373720"/>
            <a:ext cx="7489800" cy="977760"/>
            <a:chOff x="1332000" y="5373720"/>
            <a:chExt cx="7489800" cy="977760"/>
          </a:xfrm>
        </p:grpSpPr>
        <p:sp>
          <p:nvSpPr>
            <p:cNvPr id="800" name=""/>
            <p:cNvSpPr/>
            <p:nvPr/>
          </p:nvSpPr>
          <p:spPr>
            <a:xfrm>
              <a:off x="1332000" y="5884920"/>
              <a:ext cx="7489800" cy="46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1334880" y="5373720"/>
              <a:ext cx="7471440" cy="499320"/>
              <a:chOff x="1334880" y="5373720"/>
              <a:chExt cx="7471440" cy="499320"/>
            </a:xfrm>
          </p:grpSpPr>
          <p:pic>
            <p:nvPicPr>
              <p:cNvPr id="802" name="" descr=""/>
              <p:cNvPicPr/>
              <p:nvPr/>
            </p:nvPicPr>
            <p:blipFill>
              <a:blip r:embed="rId1"/>
              <a:srcRect l="0" t="0" r="14994" b="89649"/>
              <a:stretch/>
            </p:blipFill>
            <p:spPr>
              <a:xfrm>
                <a:off x="4863960" y="5373720"/>
                <a:ext cx="3942360" cy="48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3" name="" descr=""/>
              <p:cNvPicPr/>
              <p:nvPr/>
            </p:nvPicPr>
            <p:blipFill>
              <a:blip r:embed="rId2"/>
              <a:srcRect l="6467" t="281" r="53869" b="89649"/>
              <a:stretch/>
            </p:blipFill>
            <p:spPr>
              <a:xfrm>
                <a:off x="3395520" y="5373720"/>
                <a:ext cx="1839600" cy="49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4" name="" descr=""/>
              <p:cNvPicPr/>
              <p:nvPr/>
            </p:nvPicPr>
            <p:blipFill>
              <a:blip r:embed="rId3"/>
              <a:srcRect l="0" t="245" r="53869" b="89649"/>
              <a:stretch/>
            </p:blipFill>
            <p:spPr>
              <a:xfrm>
                <a:off x="1334880" y="5377320"/>
                <a:ext cx="2139840" cy="495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5" name=""/>
            <p:cNvSpPr/>
            <p:nvPr/>
          </p:nvSpPr>
          <p:spPr>
            <a:xfrm>
              <a:off x="1673640" y="6193800"/>
              <a:ext cx="3096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662720" y="6075000"/>
              <a:ext cx="72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X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67160" y="6197760"/>
              <a:ext cx="3479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292160" y="6001200"/>
              <a:ext cx="147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651720" y="5888880"/>
              <a:ext cx="72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AX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07040" y="6005160"/>
              <a:ext cx="15163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0026-5404-49F7-9898-42F0D69B7C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99640" y="2923920"/>
            <a:ext cx="3527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quitetura Pentium: Exemplos de Registrador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3995640" y="981000"/>
            <a:ext cx="4934160" cy="573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80F9-271B-4C5F-B30B-D242598B5D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258920" y="22032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336680" y="1897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gistradores - Parâmet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po de acesso/ciclo de memór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1 a 5 ns (hipotético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pac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baixa - 8 a 64 bit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olati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dispositivos volátei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cnologi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ória de semicondut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porarie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armazenamento temporári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mais elevad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413000" y="6218280"/>
            <a:ext cx="7551720" cy="368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r 1 a 5 ns neste instante pode significar um valor já desatualizad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6568-67B4-4925-87AD-6AF21EF60C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295280" y="29340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371240" y="174096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a de Sistemas de Computação - gargalo de congestionamento na comunicação CPU/MP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ção: desenvolvimento de uma técnica que consiste na inclusão de um dispositivo de memória entre CPU e MP - memória CACH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função - acelerar a velocidade de transferência das informações entre CPU e MP, aumentando o desempenho dos sistema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da para armazenamento de instruções e dados mais freqüentemente acessados do programa em execuçã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5A35-1637-4575-8035-40C5F75C19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295280" y="28548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371600" y="1886040"/>
            <a:ext cx="7316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da com tecnologia semelhante à da CPU (possui tempos de acesso compatíveis, resultando numa considerável redução da espera da CPU para receber dados e instruções da cache, ao contrário do que acontece em sistemas sem cache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mente há diversos tipos de memória cache, utilizados em sistemas de computação moderno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 para a Memória Principal (RAM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che para Disc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A039-3E49-442D-89FF-0090F522AE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258920" y="29808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3352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 ser inseridas em dois (ou três) níveis: Cache L1 (Level 1) - nível 1), Cache L2 e Cache L3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che L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primária) - interna ao processad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che L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xterna ou secundária) -  instalada, em geral, na placa-mãe do computador. Atualmente:localizada no interior da pastilha do processador, separada deste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ack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o mais próxima do processador, melhor será o desempenho do mesm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che L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existente em poucos processadores, localizada externamente ao processad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D5FA-32C5-4003-9A81-9A1A8532D6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403280" y="22212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251000" y="166968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Cache - Parâmet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mpo de acesso/ciclo de memóri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 5 a 7 ns (hipotético)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apacida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deve-se conciliar o compromisso de uma capacidade apreciável com a não-elevação demasiada do preço.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lor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 KB e 512 KB (cache L1) e 2 MB (cache L2)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Volatilida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dispositivos voláteis.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cnologia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ircuitos eletrônicos de alta velocidade. Em geral, são memórias RAM estáticas (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mporarieda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armazenamento temporário.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st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o custo de fabricação das memórias cache é alto. Memórias cache internas à CPU ainda são mais  caras do que as externas.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CC20B-E92B-4A92-ADB6-B707963E25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1407960" y="1631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 Princip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mória básica de um sistema de computação desde seus primórdio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o dispositivo no qual o programa (e seus dados) que vai ser executado é armazenado para que a CPU vá "buscando" instrução por instrução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title"/>
          </p:nvPr>
        </p:nvSpPr>
        <p:spPr>
          <a:xfrm>
            <a:off x="1330200" y="18396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403280" y="4869000"/>
            <a:ext cx="7467840" cy="17398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a das principais características definidas no projeto de arquitetura do sistema de Von Neumann, o qual se constitui na primeira geração dos computadores, consistia no fato de ser uma máquina "de programa armazenado". O fato de as instruções, uma após a outra, poderem ser imediatamente acessadas pela CPU é que garante o automatismo do sistema e aumenta a velocidade de execução dos programas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6732-2396-403C-9A7B-C895A893D8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132876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Principal - Parâmet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po de acesso/ciclo de memór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7 a l5 ns (hipotético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pac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– usualmente, na ordem de até 2 GB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olatilidad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volátil. Há normalmente uma pequena quantidade de memória não volátil fazendo parte da memória principal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cnolog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em sistemas atuais esta tecnologia produz memória com elementos dinâmicos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RA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title"/>
          </p:nvPr>
        </p:nvSpPr>
        <p:spPr>
          <a:xfrm>
            <a:off x="1403280" y="28548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5E40-8B99-43EF-BC84-A1DCF9382D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/>
          </p:nvPr>
        </p:nvSpPr>
        <p:spPr>
          <a:xfrm>
            <a:off x="1407960" y="1631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 Princip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title"/>
          </p:nvPr>
        </p:nvSpPr>
        <p:spPr>
          <a:xfrm>
            <a:off x="1330200" y="18396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403280" y="587700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guração da memória principal (MP) de um microcomputador do tipo PC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34920" y="2276640"/>
            <a:ext cx="9144000" cy="3528720"/>
            <a:chOff x="34920" y="2276640"/>
            <a:chExt cx="9144000" cy="3528720"/>
          </a:xfrm>
        </p:grpSpPr>
        <p:grpSp>
          <p:nvGrpSpPr>
            <p:cNvPr id="834" name=""/>
            <p:cNvGrpSpPr/>
            <p:nvPr/>
          </p:nvGrpSpPr>
          <p:grpSpPr>
            <a:xfrm>
              <a:off x="358920" y="2276640"/>
              <a:ext cx="8820000" cy="3528720"/>
              <a:chOff x="358920" y="2276640"/>
              <a:chExt cx="8820000" cy="3528720"/>
            </a:xfrm>
          </p:grpSpPr>
          <p:grpSp>
            <p:nvGrpSpPr>
              <p:cNvPr id="835" name=""/>
              <p:cNvGrpSpPr/>
              <p:nvPr/>
            </p:nvGrpSpPr>
            <p:grpSpPr>
              <a:xfrm>
                <a:off x="358920" y="2276640"/>
                <a:ext cx="8820000" cy="3429000"/>
                <a:chOff x="358920" y="2276640"/>
                <a:chExt cx="8820000" cy="3429000"/>
              </a:xfrm>
            </p:grpSpPr>
            <p:pic>
              <p:nvPicPr>
                <p:cNvPr id="836" name="" descr=""/>
                <p:cNvPicPr/>
                <p:nvPr/>
              </p:nvPicPr>
              <p:blipFill>
                <a:blip r:embed="rId1"/>
                <a:srcRect l="4714" t="0" r="-640" b="0"/>
                <a:stretch/>
              </p:blipFill>
              <p:spPr>
                <a:xfrm>
                  <a:off x="358920" y="2276640"/>
                  <a:ext cx="8820000" cy="342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1158840" y="5364360"/>
                  <a:ext cx="222840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) Nomenclatura correta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378480" y="5326200"/>
                  <a:ext cx="222840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) Nomenclatura popular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58920" y="5097600"/>
                  <a:ext cx="1047600" cy="261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Endereço N-1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358920" y="2526120"/>
                  <a:ext cx="990360" cy="261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Endereço 0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445000" y="5078520"/>
                  <a:ext cx="1047240" cy="261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Endereço N-1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368680" y="2468880"/>
                  <a:ext cx="990360" cy="261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Endereço 0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520800" y="3059280"/>
                  <a:ext cx="723600" cy="73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itura/escrita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/W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558960" y="4602600"/>
                  <a:ext cx="723600" cy="27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OM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4606920" y="3802320"/>
                  <a:ext cx="723240" cy="27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AM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569080" y="4621320"/>
                  <a:ext cx="552240" cy="27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OM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8550000" y="3078360"/>
                  <a:ext cx="552240" cy="554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AM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/W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H="1">
                  <a:off x="6511320" y="2526120"/>
                  <a:ext cx="16570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H="1">
                  <a:off x="6530400" y="2678400"/>
                  <a:ext cx="16570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>
                  <a:off x="6492240" y="4411800"/>
                  <a:ext cx="16570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>
                  <a:off x="1425240" y="4449960"/>
                  <a:ext cx="16761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H="1">
                  <a:off x="1425240" y="5307120"/>
                  <a:ext cx="16761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H="1">
                  <a:off x="1425240" y="5135760"/>
                  <a:ext cx="16761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>
                  <a:off x="1425240" y="4259520"/>
                  <a:ext cx="16761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>
                  <a:off x="1425240" y="2697480"/>
                  <a:ext cx="16761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>
                  <a:off x="1425240" y="2507040"/>
                  <a:ext cx="16761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7" name=""/>
              <p:cNvSpPr/>
              <p:nvPr/>
            </p:nvSpPr>
            <p:spPr>
              <a:xfrm>
                <a:off x="8999640" y="2276640"/>
                <a:ext cx="179280" cy="352872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34920" y="2276640"/>
              <a:ext cx="324000" cy="34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6F07-EC2B-4F8F-9C3E-57A18C1E09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6948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670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e de um sistema de computação cuja função é armazenar informações que são (ou serão) manipuladas por esse sistema, para que elas (as informações) possam ser prontamente recuperadas, (quando necessário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ceitualm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memória é um “depósito” onde são guardados elementos (informações) para serem usadas quando desejado (recuperação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ções em um depósi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emória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dar um elemento (ou um grup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peração de um elemen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1400-8C15-4201-9B0D-4BECDE0BB1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1295280" y="1670040"/>
            <a:ext cx="7453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Principal - Parâmet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porarie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variável, depende de várias circunstâncias (p. ex.: tamanho do programa e sua duração, a quantidade de programas que estão sendo processados juntos, etc.). A transitoriedade com que as informações permanecem armazenadas na MP é, em geral, mais duradoura que na memória cache ou nos registradore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DRAM têm um custo mais baixo que o das memórias cache - são vendidos computadores com quantidade apreciável de MP (256 MB, 512 MB, 1 GB, 2 GB) sem que o preço seja inaceitável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title"/>
          </p:nvPr>
        </p:nvSpPr>
        <p:spPr>
          <a:xfrm>
            <a:off x="1293840" y="23004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31B6-5E98-4155-BA58-F90BDBCE35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1371600" y="1844640"/>
            <a:ext cx="737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Princip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o maior a capacidade de armazenamento (em Bytes), maior a capacidade de processament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 de memória virtu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o do HD como extensão da Memória Princip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8C8E-0FD7-4079-9575-DEC2FB4F64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41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Principal – Endereços de Memó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ória – formada por um conjunto de células (posições), cada uma guarda uma informaçã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élula – menor unidade endereçável (tamanho padrão usual – 8 bits – 1 byte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tes são agrupados em palavras (palavra de 32 bits tem 4 bytes/palavra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ioria das instruções de uma máquina opera sobre palavras. Uma máquina de 32 bits deverá ter registradores e instruções para tratar palavras de 32 bit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EEC3-1AEF-4AC0-B66F-CAE69A9417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/>
          </p:nvPr>
        </p:nvSpPr>
        <p:spPr>
          <a:xfrm>
            <a:off x="1403280" y="1916280"/>
            <a:ext cx="734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Principal – Endereços de Memó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ereço da célula – número associado à célula, que permite aos programas referenciá-l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ória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élulas – 0 a n – 1 endereç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élula de k bits – pode armazenar 2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binações de bit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8076-4E92-4F72-A9FA-65F2488E22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4427640" y="3789360"/>
            <a:ext cx="1873080" cy="64764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1371240" y="1844640"/>
            <a:ext cx="752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Princip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apacidade da MP em bits é igual ao produto do nº de células pelo total de bits por célul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 = N x 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 = capacidade da memória em bit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 é o número de linhas do barramento d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dereç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 = número de bits de cada célul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DC42-B95A-4030-AE37-95508738E1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41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rcício 1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ma memória principal RAM (MP) tem um espaço máximo de endereçamento de 2K. Cada célula pode armazenar 16 bit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00000" indent="-3636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o valor total de bits que pode ser armazenado nesta memória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00000" indent="-3636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o tamanho de cada endereço?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6DF9-5D49-4C38-9D6E-82B7FD1344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7416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rcício 1 – Solu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valor total de bits que pode ser armazenado nesta memória (T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 = N x 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 = 2K x 16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 = 32 Kbits (= 4 KB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manho de cada endereço (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 K = 2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 = 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875B-42BC-4E7F-B5BD-5741A980B6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4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rcício 2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m computador, cuja memória RAM (MP) tem uma capacidade máxima de armazenamento de 2K palavras de 16 bits cada, possui um MAR e um MD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12880" indent="-363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o tamanho destes registradore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12880" indent="-363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o valor do maior endereço dessa MP (em decimal e em hexa)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12880" indent="-363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a quantidade total de bits que nela pode ser armazenada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4250-72D6-471B-A4F9-7ACD793231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/>
          </p:nvPr>
        </p:nvSpPr>
        <p:spPr>
          <a:xfrm>
            <a:off x="1332000" y="177120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rcício 2 – Solu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mory Address Regist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= 11 bi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DR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mory Data Regist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= 16 bit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ior endereço = 2K -1 (1111111111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imal = 20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xa = 7FF (1111111111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 = N x 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 = 2K x 16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 = 32 Kbits (= 4 KB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CCA8-43E3-4A80-8181-988F3F8FA3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1447920" y="170028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 Secundá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minada memória secundária, memória auxiliar ou memória de mass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: garantir um armazenamento mais permanente à toda a estrutura de dados e programas do usuário - deve possuir maior capacidade que a memória principal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 ser constituída por diferentes tipos de dispositivos, alguns diretamente ligados ao sistema para acesso imediato (Ex.: discos rígidos), e outros que podem ser conectados quando desejado (Ex.: disquetes, fitas, CD-ROM etc.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1403280" y="28872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0B7F-0BF3-4D12-BF76-25E40D4FB9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3148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79800" y="1908000"/>
            <a:ext cx="4419720" cy="4051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0" t="0" r="9093" b="0"/>
          <a:stretch/>
        </p:blipFill>
        <p:spPr>
          <a:xfrm>
            <a:off x="1403280" y="2441520"/>
            <a:ext cx="1524240" cy="97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651800" y="2898720"/>
            <a:ext cx="1295280" cy="1065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74680" y="3584520"/>
            <a:ext cx="205740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AZENA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SCRITA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23200" y="4118040"/>
            <a:ext cx="1828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PERA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EITURA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98920" y="4498920"/>
            <a:ext cx="457200" cy="0"/>
          </a:xfrm>
          <a:prstGeom prst="line">
            <a:avLst/>
          </a:prstGeom>
          <a:ln cap="sq"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70920" y="4727520"/>
            <a:ext cx="457200" cy="0"/>
          </a:xfrm>
          <a:prstGeom prst="line">
            <a:avLst/>
          </a:prstGeom>
          <a:ln cap="sq"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9600" y="6099120"/>
            <a:ext cx="7238880" cy="7038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emória de um computador quando energizada, conterá sinais elétricos, mesmo que não seja uma informação úti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A64B6-69E7-4181-B690-B6FACAE8A6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/>
          </p:nvPr>
        </p:nvSpPr>
        <p:spPr>
          <a:xfrm>
            <a:off x="1258560" y="181296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Secundária - Parâmet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po de acesso/ciclo de memóri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, em geral, dispositivos eletromecânicos e não circuitos puramente eletrônicos - possuem tempo de acesso maiores. Tempos de acesso típicos: ordem de 8 a 15 ms (hipotético). Discos do tipo CD-ROM: 120 a 300 ms, fitas magnéticas - ordem de segundo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pac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varia bastante dependendo do tipo de dispositivo utilizado. Discos rígidos – ordem de 500 GB, CD-ROM - ordem de 700 MB, fitas magnéticas (a capacidade depende do comprimento da fita e da densidade de gravação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title"/>
          </p:nvPr>
        </p:nvSpPr>
        <p:spPr>
          <a:xfrm>
            <a:off x="1333440" y="28872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3E12-2F22-4EA3-85E5-3DE2F06AC7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1257120" y="167004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Secundária - Parâmet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olati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não volátei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cnolog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este parâmetro possui uma variedade imensa de tipos, visto que, para cada dispositivo entre os já mencionados (discos, disquetes, fitas, discos ópticos, CD-ROM), há diferentes tecnologias de fabricaçã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porarie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armazenamento com caráter permanente ou, pelo menos, de longo período de armazenament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bastante variad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title"/>
          </p:nvPr>
        </p:nvSpPr>
        <p:spPr>
          <a:xfrm>
            <a:off x="1331640" y="222120"/>
            <a:ext cx="78483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7690-42B3-4DC0-9B29-B57BA642DC3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/>
          </p:nvPr>
        </p:nvSpPr>
        <p:spPr>
          <a:xfrm>
            <a:off x="1328760" y="1724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de Memória em uso nos computad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24640" y="294336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ador (Cache L1 e Registradores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424640" y="492444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che L2 (separado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title"/>
          </p:nvPr>
        </p:nvSpPr>
        <p:spPr>
          <a:xfrm>
            <a:off x="1403280" y="12348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557360" y="2391120"/>
            <a:ext cx="6595200" cy="4133520"/>
            <a:chOff x="1557360" y="2391120"/>
            <a:chExt cx="6595200" cy="4133520"/>
          </a:xfrm>
        </p:grpSpPr>
        <p:sp>
          <p:nvSpPr>
            <p:cNvPr id="889" name=""/>
            <p:cNvSpPr/>
            <p:nvPr/>
          </p:nvSpPr>
          <p:spPr>
            <a:xfrm>
              <a:off x="1565280" y="2932200"/>
              <a:ext cx="1376280" cy="3592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949480" y="2932200"/>
              <a:ext cx="1420920" cy="359244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360680" y="2932200"/>
              <a:ext cx="1482840" cy="35924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98880" y="2932200"/>
              <a:ext cx="1392480" cy="3592440"/>
            </a:xfrm>
            <a:prstGeom prst="rect">
              <a:avLst/>
            </a:prstGeom>
            <a:solidFill>
              <a:srgbClr val="9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893" name="" descr=""/>
            <p:cNvPicPr/>
            <p:nvPr/>
          </p:nvPicPr>
          <p:blipFill>
            <a:blip r:embed="rId1"/>
            <a:stretch/>
          </p:blipFill>
          <p:spPr>
            <a:xfrm>
              <a:off x="1557360" y="2949480"/>
              <a:ext cx="5638680" cy="30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>
              <a:off x="2300040" y="5865840"/>
              <a:ext cx="4092840" cy="95400"/>
            </a:xfrm>
            <a:prstGeom prst="leftRightArrow">
              <a:avLst>
                <a:gd name="adj1" fmla="val 64287"/>
                <a:gd name="adj2" fmla="val 224838"/>
              </a:avLst>
            </a:prstGeom>
            <a:gradFill rotWithShape="0">
              <a:gsLst>
                <a:gs pos="0">
                  <a:srgbClr val="200b5b"/>
                </a:gs>
                <a:gs pos="100000">
                  <a:srgbClr val="e9e2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"/>
            <p:cNvSpPr txBox="1"/>
            <p:nvPr/>
          </p:nvSpPr>
          <p:spPr>
            <a:xfrm>
              <a:off x="6440400" y="5850000"/>
              <a:ext cx="701640" cy="14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200b5b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atin typeface="Arial"/>
                </a:rPr>
                <a:t>mais rápido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00b5b"/>
                    </a:gs>
                    <a:gs pos="100000">
                      <a:srgbClr val="000066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896" name=""/>
            <p:cNvSpPr txBox="1"/>
            <p:nvPr/>
          </p:nvSpPr>
          <p:spPr>
            <a:xfrm>
              <a:off x="1608120" y="5853240"/>
              <a:ext cx="644400" cy="12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9e2fc"/>
                      </a:gs>
                      <a:gs pos="100000">
                        <a:srgbClr val="e9e2fc"/>
                      </a:gs>
                    </a:gsLst>
                    <a:lin ang="5400000"/>
                  </a:gradFill>
                  <a:latin typeface="Arial"/>
                </a:rPr>
                <a:t>mais lento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9e2fc"/>
                    </a:gs>
                    <a:gs pos="100000">
                      <a:srgbClr val="e9e2f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 rot="951000">
              <a:off x="5128560" y="3789360"/>
              <a:ext cx="2724120" cy="730440"/>
            </a:xfrm>
            <a:custGeom>
              <a:avLst/>
              <a:gdLst>
                <a:gd name="textAreaLeft" fmla="*/ 585000 w 2724120"/>
                <a:gd name="textAreaRight" fmla="*/ 1988640 w 2724120"/>
                <a:gd name="textAreaTop" fmla="*/ 97560 h 730440"/>
                <a:gd name="textAreaBottom" fmla="*/ 632880 h 73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280" hR="21600" stAng="10800000" swAng="5400000"/>
                  <a:lnTo>
                    <a:pt x="11129" y="0"/>
                  </a:lnTo>
                  <a:arcTo wR="9280" hR="21600" stAng="-5400000" swAng="2781343"/>
                  <a:lnTo>
                    <a:pt x="20907" y="13410"/>
                  </a:lnTo>
                  <a:lnTo>
                    <a:pt x="19485" y="21600"/>
                  </a:lnTo>
                  <a:lnTo>
                    <a:pt x="16676" y="13410"/>
                  </a:lnTo>
                  <a:lnTo>
                    <a:pt x="17867" y="13410"/>
                  </a:lnTo>
                  <a:arcTo wR="9280" hR="21600" stAng="-2618657" swAng="-2633560"/>
                  <a:lnTo>
                    <a:pt x="10205" y="107"/>
                  </a:lnTo>
                  <a:arcTo wR="9280" hR="21600" stAng="-5547783" swAng="-5252217"/>
                  <a:close/>
                </a:path>
                <a:path fill="darkenLess" w="21600" h="21600">
                  <a:moveTo>
                    <a:pt x="0" y="21600"/>
                  </a:moveTo>
                  <a:arcTo wR="9280" hR="21600" stAng="10800000" swAng="5400000"/>
                  <a:lnTo>
                    <a:pt x="9280" y="0"/>
                  </a:lnTo>
                  <a:arcTo wR="9280" hR="21600" stAng="-5400000" swAng="147783"/>
                  <a:lnTo>
                    <a:pt x="10205" y="107"/>
                  </a:lnTo>
                  <a:arcTo wR="9280" hR="21600" stAng="-5547783" swAng="-5252217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ff99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rot="20980200">
              <a:off x="6155640" y="2562120"/>
              <a:ext cx="1960560" cy="576360"/>
            </a:xfrm>
            <a:custGeom>
              <a:avLst/>
              <a:gdLst>
                <a:gd name="textAreaLeft" fmla="*/ 421200 w 1960560"/>
                <a:gd name="textAreaRight" fmla="*/ 1431360 w 1960560"/>
                <a:gd name="textAreaTop" fmla="*/ 77040 h 576360"/>
                <a:gd name="textAreaBottom" fmla="*/ 4993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280" hR="21600" stAng="10800000" swAng="5400000"/>
                  <a:lnTo>
                    <a:pt x="11129" y="0"/>
                  </a:lnTo>
                  <a:arcTo wR="9280" hR="21600" stAng="-5400000" swAng="2781343"/>
                  <a:lnTo>
                    <a:pt x="20907" y="13410"/>
                  </a:lnTo>
                  <a:lnTo>
                    <a:pt x="19485" y="21600"/>
                  </a:lnTo>
                  <a:lnTo>
                    <a:pt x="16676" y="13410"/>
                  </a:lnTo>
                  <a:lnTo>
                    <a:pt x="17867" y="13410"/>
                  </a:lnTo>
                  <a:arcTo wR="9280" hR="21600" stAng="-2618657" swAng="-2633560"/>
                  <a:lnTo>
                    <a:pt x="10205" y="107"/>
                  </a:lnTo>
                  <a:arcTo wR="9280" hR="21600" stAng="-5547783" swAng="-5252217"/>
                  <a:close/>
                </a:path>
                <a:path fill="darkenLess" w="21600" h="21600">
                  <a:moveTo>
                    <a:pt x="0" y="21600"/>
                  </a:moveTo>
                  <a:arcTo wR="9280" hR="21600" stAng="10800000" swAng="5400000"/>
                  <a:lnTo>
                    <a:pt x="9280" y="0"/>
                  </a:lnTo>
                  <a:arcTo wR="9280" hR="21600" stAng="-5400000" swAng="147783"/>
                  <a:lnTo>
                    <a:pt x="10205" y="107"/>
                  </a:lnTo>
                  <a:arcTo wR="9280" hR="21600" stAng="-5547783" swAng="-5252217"/>
                  <a:close/>
                </a:path>
              </a:pathLst>
            </a:custGeom>
            <a:gradFill rotWithShape="0">
              <a:gsLst>
                <a:gs pos="0">
                  <a:srgbClr val="eeb00b"/>
                </a:gs>
                <a:gs pos="50000">
                  <a:srgbClr val="ffff99"/>
                </a:gs>
                <a:gs pos="100000">
                  <a:srgbClr val="eeb00b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547720" y="3019320"/>
              <a:ext cx="121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ória principal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633320" y="4010040"/>
              <a:ext cx="129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ória secundária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319120" y="6143760"/>
              <a:ext cx="4092840" cy="95040"/>
            </a:xfrm>
            <a:prstGeom prst="leftRightArrow">
              <a:avLst>
                <a:gd name="adj1" fmla="val 64287"/>
                <a:gd name="adj2" fmla="val 225689"/>
              </a:avLst>
            </a:prstGeom>
            <a:gradFill rotWithShape="0">
              <a:gsLst>
                <a:gs pos="0">
                  <a:srgbClr val="200b5b"/>
                </a:gs>
                <a:gs pos="100000">
                  <a:srgbClr val="e9e2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1633320" y="6067440"/>
              <a:ext cx="644760" cy="12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9e2fc"/>
                      </a:gs>
                      <a:gs pos="100000">
                        <a:srgbClr val="e9e2fc"/>
                      </a:gs>
                    </a:gsLst>
                    <a:lin ang="5400000"/>
                  </a:gradFill>
                  <a:latin typeface="Arial"/>
                </a:rPr>
                <a:t>mais barato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9e2fc"/>
                    </a:gs>
                    <a:gs pos="100000">
                      <a:srgbClr val="e9e2f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319120" y="6372360"/>
              <a:ext cx="4092840" cy="95040"/>
            </a:xfrm>
            <a:prstGeom prst="leftRightArrow">
              <a:avLst>
                <a:gd name="adj1" fmla="val 64287"/>
                <a:gd name="adj2" fmla="val 225689"/>
              </a:avLst>
            </a:prstGeom>
            <a:gradFill rotWithShape="0">
              <a:gsLst>
                <a:gs pos="0">
                  <a:srgbClr val="200b5b"/>
                </a:gs>
                <a:gs pos="100000">
                  <a:srgbClr val="e9e2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"/>
            <p:cNvSpPr txBox="1"/>
            <p:nvPr/>
          </p:nvSpPr>
          <p:spPr>
            <a:xfrm>
              <a:off x="1633320" y="6296040"/>
              <a:ext cx="644760" cy="12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9e2fc"/>
                      </a:gs>
                      <a:gs pos="100000">
                        <a:srgbClr val="e9e2fc"/>
                      </a:gs>
                    </a:gsLst>
                    <a:lin ang="5400000"/>
                  </a:gradFill>
                  <a:latin typeface="Arial"/>
                </a:rPr>
                <a:t>menor capacidade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9e2fc"/>
                    </a:gs>
                    <a:gs pos="100000">
                      <a:srgbClr val="e9e2f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905" name=""/>
            <p:cNvSpPr txBox="1"/>
            <p:nvPr/>
          </p:nvSpPr>
          <p:spPr>
            <a:xfrm>
              <a:off x="6510240" y="6067440"/>
              <a:ext cx="701640" cy="14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200b5b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atin typeface="Arial"/>
                </a:rPr>
                <a:t>mais caro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00b5b"/>
                    </a:gs>
                    <a:gs pos="100000">
                      <a:srgbClr val="000066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6510240" y="6296040"/>
              <a:ext cx="701640" cy="14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200b5b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atin typeface="Arial"/>
                </a:rPr>
                <a:t>menor capacidade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00b5b"/>
                    </a:gs>
                    <a:gs pos="100000">
                      <a:srgbClr val="000066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6753-544E-4F2E-96BB-3A32F89D494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o a ser manipulado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0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Armazena a informação na forma de bit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 de informação a ser armazenada, recuperada ou transferida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élu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rupo de n bits  (n = 8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By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EREÇ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o código de identificação da localização das células (informações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çõ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0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RITA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nsferência de informações de outro componente do sistema de computação para a memória (CP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mória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50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TURA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nsferência de bits da memória para a CPU, disc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95280" y="18864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EC92-78E1-47E9-972E-C304A71CF5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0916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um sistema de computação não é possível construir e utilizar apenas um tipo de memór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certas atividades, por exemplo, é fundamental que a transferência de informações seja a mais rápida possível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de um computad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bsistema - construída de vários componentes (vários tipos diferentes de memória) interligados e integrados, com o objetivo de armazenar e recuperar informaçõ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7F96-A90E-4F5C-9F3D-CA8D925FD8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1640" y="280800"/>
            <a:ext cx="784836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7960" y="1956960"/>
            <a:ext cx="7010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idade de construção de vários tipos de memória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locidade das UCP ( &gt; tempo de acesso da memóri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dade de armazenament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8360" y="454824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46400" y="561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erarquia de Memó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F815-3C7E-4E60-8419-BFE8677C39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35400" y="161604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erarquia de Memó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23080" y="466416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ória Princip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76440" y="382572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52760" y="298764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35440" y="2301840"/>
            <a:ext cx="3886200" cy="3718080"/>
          </a:xfrm>
          <a:prstGeom prst="triangle">
            <a:avLst>
              <a:gd name="adj" fmla="val 500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52760" y="5162400"/>
            <a:ext cx="29145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59080" y="5591160"/>
            <a:ext cx="3303720" cy="0"/>
          </a:xfrm>
          <a:prstGeom prst="line">
            <a:avLst/>
          </a:prstGeom>
          <a:ln w="1260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25800" y="5654520"/>
            <a:ext cx="21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89560" y="5234040"/>
            <a:ext cx="11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76760" y="4375080"/>
            <a:ext cx="22032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30720" y="3517920"/>
            <a:ext cx="12952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144760" y="3063960"/>
            <a:ext cx="1676520" cy="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602320" y="3978360"/>
            <a:ext cx="1295280" cy="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135480" y="4892760"/>
            <a:ext cx="685800" cy="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503760" y="5730840"/>
            <a:ext cx="228600" cy="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97000" y="2606760"/>
            <a:ext cx="228600" cy="3200400"/>
          </a:xfrm>
          <a:prstGeom prst="upDownArrow">
            <a:avLst>
              <a:gd name="adj1" fmla="val 50000"/>
              <a:gd name="adj2" fmla="val 278704"/>
            </a:avLst>
          </a:prstGeom>
          <a:solidFill>
            <a:srgbClr val="ff33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580716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 baixo Velocidade baixa Capacidade elevad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35240" y="161604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 alto  Velocidade alta    Baixa capacida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63320" y="550224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ória Secundár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6FCF-725C-4B5E-8A8F-3AE8F4B8C9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206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1730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erarquia de Memória - Element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Princip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Secundá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73091" t="0" r="0" b="62446"/>
          <a:stretch/>
        </p:blipFill>
        <p:spPr>
          <a:xfrm>
            <a:off x="7162920" y="2481120"/>
            <a:ext cx="1515960" cy="1154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46024" t="22121" r="22874" b="39137"/>
          <a:stretch/>
        </p:blipFill>
        <p:spPr>
          <a:xfrm>
            <a:off x="7010280" y="4092480"/>
            <a:ext cx="1752840" cy="119088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1835280" y="5166720"/>
            <a:ext cx="1736280" cy="1493640"/>
            <a:chOff x="1835280" y="5166720"/>
            <a:chExt cx="1736280" cy="1493640"/>
          </a:xfrm>
        </p:grpSpPr>
        <p:grpSp>
          <p:nvGrpSpPr>
            <p:cNvPr id="150" name=""/>
            <p:cNvGrpSpPr/>
            <p:nvPr/>
          </p:nvGrpSpPr>
          <p:grpSpPr>
            <a:xfrm>
              <a:off x="1835280" y="5166720"/>
              <a:ext cx="1736280" cy="1493640"/>
              <a:chOff x="1835280" y="5166720"/>
              <a:chExt cx="1736280" cy="1493640"/>
            </a:xfrm>
          </p:grpSpPr>
          <p:sp>
            <p:nvSpPr>
              <p:cNvPr id="151" name=""/>
              <p:cNvSpPr/>
              <p:nvPr/>
            </p:nvSpPr>
            <p:spPr>
              <a:xfrm>
                <a:off x="1835280" y="5166720"/>
                <a:ext cx="1736280" cy="149364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838520" y="5257080"/>
                <a:ext cx="1726200" cy="140292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61480" y="5587200"/>
                <a:ext cx="9720" cy="7596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21160" y="559800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484440" y="565236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444120" y="571032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403800" y="576468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63480" y="582300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23160" y="588096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82840" y="593892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39280" y="599688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208680" y="6058440"/>
                <a:ext cx="36720" cy="1047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175200" y="6105600"/>
                <a:ext cx="36720" cy="1047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141720" y="6152760"/>
                <a:ext cx="36720" cy="1087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108240" y="6203520"/>
                <a:ext cx="36720" cy="10512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74400" y="6250680"/>
                <a:ext cx="36720" cy="10512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40920" y="6297840"/>
                <a:ext cx="36720" cy="1087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03840" y="6348600"/>
                <a:ext cx="40320" cy="10476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970360" y="6395760"/>
                <a:ext cx="36720" cy="10836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933280" y="6446520"/>
                <a:ext cx="39960" cy="10872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99800" y="6497280"/>
                <a:ext cx="36720" cy="10512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76400" y="6548040"/>
                <a:ext cx="26640" cy="9036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862720" y="6584040"/>
                <a:ext cx="13320" cy="6516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42560" y="6598800"/>
                <a:ext cx="20160" cy="6156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22760" y="6602400"/>
                <a:ext cx="19800" cy="5796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02600" y="6598800"/>
                <a:ext cx="20160" cy="6156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738520" y="6570000"/>
                <a:ext cx="63720" cy="831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678040" y="6540840"/>
                <a:ext cx="60120" cy="831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617560" y="6511680"/>
                <a:ext cx="60120" cy="831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557440" y="6482880"/>
                <a:ext cx="60120" cy="831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96600" y="6453720"/>
                <a:ext cx="60480" cy="831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36480" y="6424560"/>
                <a:ext cx="60120" cy="831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376000" y="6392160"/>
                <a:ext cx="60120" cy="867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315520" y="6366600"/>
                <a:ext cx="63720" cy="831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55040" y="6337800"/>
                <a:ext cx="63720" cy="831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197800" y="6308640"/>
                <a:ext cx="63720" cy="831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140920" y="6279840"/>
                <a:ext cx="63720" cy="8676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083680" y="6254280"/>
                <a:ext cx="63720" cy="831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026440" y="6225480"/>
                <a:ext cx="60120" cy="867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65960" y="6199920"/>
                <a:ext cx="66960" cy="831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12320" y="6170760"/>
                <a:ext cx="63720" cy="8676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855440" y="6141960"/>
                <a:ext cx="63720" cy="8676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841760" y="6134760"/>
                <a:ext cx="23400" cy="687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835280" y="6120360"/>
                <a:ext cx="13320" cy="7236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835280" y="5199120"/>
                <a:ext cx="1736280" cy="140652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47360" y="5536440"/>
                <a:ext cx="9720" cy="7956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245760" y="5543640"/>
                <a:ext cx="208080" cy="35532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232440" y="5877360"/>
                <a:ext cx="13320" cy="3960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215520" y="5837400"/>
                <a:ext cx="20160" cy="10476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95360" y="5841000"/>
                <a:ext cx="26640" cy="12672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175200" y="5837400"/>
                <a:ext cx="29880" cy="13032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138480" y="5823000"/>
                <a:ext cx="46800" cy="1411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071160" y="5717880"/>
                <a:ext cx="73800" cy="22824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14720" y="5608800"/>
                <a:ext cx="6480" cy="15588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104640" y="5580000"/>
                <a:ext cx="16560" cy="15948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91320" y="5554440"/>
                <a:ext cx="23400" cy="15588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067920" y="5529240"/>
                <a:ext cx="29880" cy="15588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40920" y="5507280"/>
                <a:ext cx="36720" cy="15228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07440" y="5489280"/>
                <a:ext cx="39960" cy="14868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977200" y="5478480"/>
                <a:ext cx="36720" cy="1411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950200" y="5467320"/>
                <a:ext cx="33480" cy="1411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936880" y="5456520"/>
                <a:ext cx="16560" cy="1411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930040" y="5442120"/>
                <a:ext cx="10080" cy="14472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26800" y="5427720"/>
                <a:ext cx="6480" cy="14508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28440" y="5282640"/>
                <a:ext cx="187920" cy="1375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18360" y="5279040"/>
                <a:ext cx="9720" cy="6516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15120" y="5271480"/>
                <a:ext cx="3240" cy="6876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715120" y="5264640"/>
                <a:ext cx="360" cy="6876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67960" y="5344200"/>
                <a:ext cx="221400" cy="10836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674800" y="5351400"/>
                <a:ext cx="214920" cy="9756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674800" y="5391360"/>
                <a:ext cx="305280" cy="15552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667960" y="5391360"/>
                <a:ext cx="305280" cy="16272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44560" y="5540040"/>
                <a:ext cx="13320" cy="7956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232440" y="5880960"/>
                <a:ext cx="19800" cy="7236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856240" y="6515280"/>
                <a:ext cx="16560" cy="687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836080" y="6530040"/>
                <a:ext cx="23400" cy="612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815920" y="6537240"/>
                <a:ext cx="23400" cy="5796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795760" y="6533640"/>
                <a:ext cx="23400" cy="6156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32480" y="5514480"/>
                <a:ext cx="446400" cy="56196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848600" y="6076440"/>
                <a:ext cx="23400" cy="687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41760" y="6062040"/>
                <a:ext cx="16560" cy="7236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26400" y="5224680"/>
                <a:ext cx="208080" cy="29700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26400" y="5503680"/>
                <a:ext cx="16560" cy="7596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09480" y="5514480"/>
                <a:ext cx="20160" cy="687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89320" y="5518440"/>
                <a:ext cx="23400" cy="687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376000" y="5514480"/>
                <a:ext cx="16560" cy="7236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45800" y="6058440"/>
                <a:ext cx="13320" cy="7236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952640" y="6040440"/>
                <a:ext cx="6480" cy="7596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29240" y="6073200"/>
                <a:ext cx="23400" cy="7236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29240" y="6084000"/>
                <a:ext cx="6480" cy="615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765520" y="6482880"/>
                <a:ext cx="3240" cy="5796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65160" y="6087600"/>
                <a:ext cx="933480" cy="50004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22360" y="5869800"/>
                <a:ext cx="16560" cy="7236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22360" y="5855400"/>
                <a:ext cx="6480" cy="7596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460680" y="5558040"/>
                <a:ext cx="23400" cy="7236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869560" y="5554440"/>
                <a:ext cx="685080" cy="101880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701800" y="5202720"/>
                <a:ext cx="772560" cy="37332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957040" y="5340600"/>
                <a:ext cx="6480" cy="6876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953800" y="534780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46960" y="5351400"/>
                <a:ext cx="9720" cy="6876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936880" y="5358600"/>
                <a:ext cx="13320" cy="6516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26800" y="5362200"/>
                <a:ext cx="9720" cy="61560"/>
              </a:xfrm>
              <a:prstGeom prst="rect">
                <a:avLst/>
              </a:prstGeom>
              <a:solidFill>
                <a:srgbClr val="402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13120" y="5358600"/>
                <a:ext cx="13320" cy="6516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447360" y="5532840"/>
                <a:ext cx="13320" cy="7956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450600" y="5547240"/>
                <a:ext cx="16560" cy="7596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94960" y="5202720"/>
                <a:ext cx="6480" cy="7956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84880" y="5213520"/>
                <a:ext cx="13320" cy="7596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667960" y="5224680"/>
                <a:ext cx="16560" cy="7236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647800" y="5228280"/>
                <a:ext cx="20160" cy="687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34480" y="5224680"/>
                <a:ext cx="16560" cy="7236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439720" y="5489280"/>
                <a:ext cx="10080" cy="7956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841760" y="5166720"/>
                <a:ext cx="1716120" cy="137052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715120" y="5242680"/>
                <a:ext cx="248400" cy="11952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933280" y="5340600"/>
                <a:ext cx="527040" cy="50400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030840" y="534060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13920" y="5340600"/>
                <a:ext cx="16560" cy="10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997360" y="5340600"/>
                <a:ext cx="19800" cy="14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87280" y="534780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936880" y="5355000"/>
                <a:ext cx="56880" cy="651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933280" y="5416920"/>
                <a:ext cx="13320" cy="10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33280" y="5427720"/>
                <a:ext cx="1332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933280" y="5434920"/>
                <a:ext cx="16560" cy="21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940120" y="5442120"/>
                <a:ext cx="20160" cy="252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953800" y="5449320"/>
                <a:ext cx="36720" cy="288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983680" y="546408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13920" y="5474880"/>
                <a:ext cx="39960" cy="32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047400" y="5492880"/>
                <a:ext cx="36720" cy="36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078000" y="5514480"/>
                <a:ext cx="29880" cy="396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97800" y="5543640"/>
                <a:ext cx="26640" cy="360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114720" y="5572800"/>
                <a:ext cx="19800" cy="360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21560" y="5605200"/>
                <a:ext cx="13320" cy="324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14720" y="5637960"/>
                <a:ext cx="19800" cy="32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097800" y="5666760"/>
                <a:ext cx="26640" cy="32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81240" y="5695920"/>
                <a:ext cx="26640" cy="216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081240" y="5717880"/>
                <a:ext cx="73800" cy="10476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144960" y="5808240"/>
                <a:ext cx="43560" cy="28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85280" y="5823000"/>
                <a:ext cx="20160" cy="216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05440" y="5826600"/>
                <a:ext cx="16560" cy="180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19120" y="5823000"/>
                <a:ext cx="20160" cy="180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32440" y="5811840"/>
                <a:ext cx="19800" cy="252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42520" y="5532840"/>
                <a:ext cx="211320" cy="29376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44120" y="5525640"/>
                <a:ext cx="16560" cy="180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47360" y="5518440"/>
                <a:ext cx="13320" cy="10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40520" y="550728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430440" y="550008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44160" y="5344200"/>
                <a:ext cx="389520" cy="16272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943360" y="5351400"/>
                <a:ext cx="503640" cy="474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078000" y="5522040"/>
                <a:ext cx="23400" cy="11952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07440" y="5576400"/>
                <a:ext cx="77040" cy="903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933280" y="5583600"/>
                <a:ext cx="80280" cy="831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896560" y="5536440"/>
                <a:ext cx="39960" cy="11232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899800" y="5456520"/>
                <a:ext cx="201240" cy="14472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57840" y="5471280"/>
                <a:ext cx="43560" cy="504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990520" y="5456520"/>
                <a:ext cx="73800" cy="2520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923200" y="5456520"/>
                <a:ext cx="66960" cy="32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899800" y="5482080"/>
                <a:ext cx="29880" cy="543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99800" y="5529240"/>
                <a:ext cx="43560" cy="543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36880" y="5569200"/>
                <a:ext cx="77040" cy="324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13920" y="5561640"/>
                <a:ext cx="70200" cy="3960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074400" y="5522040"/>
                <a:ext cx="26640" cy="543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13120" y="5467320"/>
                <a:ext cx="174600" cy="11592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913120" y="5467320"/>
                <a:ext cx="174600" cy="12312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36880" y="5482080"/>
                <a:ext cx="127440" cy="9036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67120" y="5503680"/>
                <a:ext cx="70560" cy="5040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70360" y="5507280"/>
                <a:ext cx="60120" cy="3960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3600" y="5510880"/>
                <a:ext cx="53640" cy="3600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80440" y="5514480"/>
                <a:ext cx="40320" cy="288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93760" y="5380560"/>
                <a:ext cx="77040" cy="543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00600" y="5387760"/>
                <a:ext cx="63720" cy="4356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3840" y="5387760"/>
                <a:ext cx="56880" cy="39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07440" y="5387760"/>
                <a:ext cx="53640" cy="3960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10680" y="5391360"/>
                <a:ext cx="46800" cy="32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20760" y="5394960"/>
                <a:ext cx="36720" cy="252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03840" y="5402160"/>
                <a:ext cx="56880" cy="1080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03840" y="5402160"/>
                <a:ext cx="56880" cy="1080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323160" y="5514480"/>
                <a:ext cx="77040" cy="543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29640" y="5518440"/>
                <a:ext cx="63720" cy="468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33240" y="5522040"/>
                <a:ext cx="56880" cy="39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333240" y="5522040"/>
                <a:ext cx="56880" cy="3600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36480" y="5522040"/>
                <a:ext cx="50040" cy="32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43320" y="5522040"/>
                <a:ext cx="36720" cy="252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349800" y="5522040"/>
                <a:ext cx="23400" cy="396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53400" y="5522040"/>
                <a:ext cx="16560" cy="3960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148200" y="5743080"/>
                <a:ext cx="80280" cy="615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155040" y="5750280"/>
                <a:ext cx="66960" cy="5040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158640" y="5753880"/>
                <a:ext cx="60120" cy="4356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161880" y="5753880"/>
                <a:ext cx="56880" cy="4356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68720" y="5757480"/>
                <a:ext cx="50040" cy="360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178440" y="5761080"/>
                <a:ext cx="36720" cy="252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161880" y="5768280"/>
                <a:ext cx="56880" cy="1440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161880" y="5768280"/>
                <a:ext cx="56880" cy="1080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474360" y="5514480"/>
                <a:ext cx="66960" cy="46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480840" y="5518440"/>
                <a:ext cx="56880" cy="39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484440" y="5518440"/>
                <a:ext cx="50040" cy="360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87680" y="5522040"/>
                <a:ext cx="46800" cy="32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490920" y="5522040"/>
                <a:ext cx="43560" cy="28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501000" y="5525640"/>
                <a:ext cx="29880" cy="216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87680" y="5532840"/>
                <a:ext cx="46800" cy="1080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87680" y="5532840"/>
                <a:ext cx="46800" cy="720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245760" y="5833800"/>
                <a:ext cx="66960" cy="5040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3249360" y="5837400"/>
              <a:ext cx="60120" cy="432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52600" y="5837400"/>
              <a:ext cx="53640" cy="396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56200" y="5841000"/>
              <a:ext cx="50040" cy="3600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62680" y="5841000"/>
              <a:ext cx="39960" cy="32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69520" y="5844600"/>
              <a:ext cx="33480" cy="252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56200" y="5851800"/>
              <a:ext cx="50040" cy="10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56200" y="5855400"/>
              <a:ext cx="50040" cy="720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21160" y="5173920"/>
              <a:ext cx="63720" cy="435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28000" y="5177520"/>
              <a:ext cx="53640" cy="360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31240" y="5177520"/>
              <a:ext cx="46800" cy="32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34840" y="5181120"/>
              <a:ext cx="43560" cy="288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38080" y="5181120"/>
              <a:ext cx="36720" cy="252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44920" y="5184720"/>
              <a:ext cx="30240" cy="216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31240" y="5191920"/>
              <a:ext cx="46800" cy="72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31240" y="5191920"/>
              <a:ext cx="46800" cy="72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5920" y="5460120"/>
              <a:ext cx="66960" cy="468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69520" y="5464080"/>
              <a:ext cx="56880" cy="3960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72760" y="5467680"/>
              <a:ext cx="50040" cy="32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76000" y="5467680"/>
              <a:ext cx="46800" cy="32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79600" y="5467680"/>
              <a:ext cx="43560" cy="32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89680" y="5471280"/>
              <a:ext cx="29880" cy="216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72760" y="5478480"/>
              <a:ext cx="50040" cy="10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76000" y="5482080"/>
              <a:ext cx="46800" cy="72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62280" y="6022440"/>
              <a:ext cx="70200" cy="543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65520" y="6026040"/>
              <a:ext cx="60120" cy="4680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69120" y="6029640"/>
              <a:ext cx="53640" cy="396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72360" y="6029640"/>
              <a:ext cx="50040" cy="39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75600" y="6033240"/>
              <a:ext cx="46800" cy="32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85680" y="6036840"/>
              <a:ext cx="36720" cy="252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72360" y="6044040"/>
              <a:ext cx="50040" cy="1440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72360" y="6044040"/>
              <a:ext cx="50040" cy="10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89280" y="6461280"/>
              <a:ext cx="73800" cy="615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95760" y="6464880"/>
              <a:ext cx="63720" cy="507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99360" y="6468480"/>
              <a:ext cx="56880" cy="468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02600" y="6468480"/>
              <a:ext cx="50040" cy="432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05840" y="6472080"/>
              <a:ext cx="46800" cy="3960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16280" y="6475680"/>
              <a:ext cx="36720" cy="288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99360" y="6486480"/>
              <a:ext cx="56880" cy="1080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99360" y="6486480"/>
              <a:ext cx="53640" cy="1080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07440" y="5605560"/>
              <a:ext cx="1024200" cy="76860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07440" y="5590800"/>
              <a:ext cx="1024200" cy="76860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07440" y="5576400"/>
              <a:ext cx="1024200" cy="77220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07440" y="5565600"/>
              <a:ext cx="1024200" cy="76860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07440" y="5550840"/>
              <a:ext cx="1024200" cy="77220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07440" y="5536440"/>
              <a:ext cx="1024200" cy="77220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07440" y="5525640"/>
              <a:ext cx="1024200" cy="77220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07440" y="5511240"/>
              <a:ext cx="1024200" cy="77220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510280" y="5717880"/>
              <a:ext cx="77040" cy="324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10280" y="5692320"/>
              <a:ext cx="77040" cy="46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57440" y="5525640"/>
              <a:ext cx="433080" cy="20664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57440" y="5511240"/>
              <a:ext cx="429480" cy="20988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84440" y="5670720"/>
              <a:ext cx="43560" cy="32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5677920"/>
              <a:ext cx="29880" cy="180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97760" y="5681520"/>
              <a:ext cx="16560" cy="108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09480" y="5721480"/>
              <a:ext cx="419760" cy="31536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39720" y="5746680"/>
              <a:ext cx="359280" cy="26784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82440" y="5826600"/>
              <a:ext cx="3240" cy="7236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79200" y="5837400"/>
              <a:ext cx="6480" cy="7596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5600" y="5851800"/>
              <a:ext cx="6480" cy="7236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769120" y="5862960"/>
              <a:ext cx="6480" cy="7236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62280" y="5873760"/>
              <a:ext cx="6480" cy="7236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52200" y="5884560"/>
              <a:ext cx="9720" cy="7236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742120" y="5895360"/>
              <a:ext cx="13320" cy="7236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732040" y="5906520"/>
              <a:ext cx="10080" cy="7236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18720" y="5913720"/>
              <a:ext cx="13320" cy="7236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05400" y="5924520"/>
              <a:ext cx="13320" cy="687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91720" y="5931720"/>
              <a:ext cx="13320" cy="6516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75160" y="5935320"/>
              <a:ext cx="16560" cy="687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661480" y="5938920"/>
              <a:ext cx="13320" cy="687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4920" y="5942520"/>
              <a:ext cx="16560" cy="6516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28000" y="5946120"/>
              <a:ext cx="16560" cy="6156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11080" y="5949720"/>
              <a:ext cx="16560" cy="6156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94520" y="5946120"/>
              <a:ext cx="16560" cy="6516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580840" y="5946120"/>
              <a:ext cx="13320" cy="61560"/>
            </a:xfrm>
            <a:prstGeom prst="rect">
              <a:avLst/>
            </a:pr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64280" y="5942520"/>
              <a:ext cx="16560" cy="6516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47360" y="5935320"/>
              <a:ext cx="16560" cy="687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34040" y="5931720"/>
              <a:ext cx="16560" cy="6516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20360" y="5924520"/>
              <a:ext cx="13320" cy="687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07040" y="5917320"/>
              <a:ext cx="13320" cy="687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93720" y="5906520"/>
              <a:ext cx="13320" cy="7236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83640" y="5895360"/>
              <a:ext cx="13320" cy="7236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76800" y="5888160"/>
              <a:ext cx="9720" cy="6876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70320" y="5877360"/>
              <a:ext cx="6480" cy="7236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63480" y="5866560"/>
              <a:ext cx="6480" cy="7236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59880" y="5851800"/>
              <a:ext cx="3240" cy="7596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456640" y="5841000"/>
              <a:ext cx="3240" cy="7236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53400" y="5830200"/>
              <a:ext cx="3240" cy="7236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53400" y="5699880"/>
              <a:ext cx="332280" cy="24984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1160" y="5717880"/>
              <a:ext cx="77040" cy="1047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40520" y="5823000"/>
              <a:ext cx="80280" cy="1087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1160" y="5710680"/>
              <a:ext cx="53640" cy="112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67520" y="5823000"/>
              <a:ext cx="53640" cy="112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21160" y="5710680"/>
              <a:ext cx="26640" cy="11232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90920" y="5823000"/>
              <a:ext cx="29880" cy="11592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01000" y="5710680"/>
              <a:ext cx="23400" cy="112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14680" y="5823000"/>
              <a:ext cx="23400" cy="11592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77600" y="5710680"/>
              <a:ext cx="43560" cy="112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21160" y="5823000"/>
              <a:ext cx="43560" cy="11592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50960" y="5714280"/>
              <a:ext cx="70200" cy="1087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21160" y="5823000"/>
              <a:ext cx="66960" cy="1087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27200" y="5721480"/>
              <a:ext cx="93960" cy="1015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621160" y="5823000"/>
              <a:ext cx="93960" cy="1015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00560" y="5735880"/>
              <a:ext cx="120600" cy="867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621160" y="5823000"/>
              <a:ext cx="117360" cy="9072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80400" y="5753880"/>
              <a:ext cx="140760" cy="687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21160" y="5823000"/>
              <a:ext cx="140760" cy="687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66720" y="5783040"/>
              <a:ext cx="154440" cy="396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621160" y="5823000"/>
              <a:ext cx="150840" cy="435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66720" y="5815800"/>
              <a:ext cx="154440" cy="3600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21160" y="5793840"/>
              <a:ext cx="150840" cy="3600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73560" y="5823000"/>
              <a:ext cx="147600" cy="6156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21160" y="5765040"/>
              <a:ext cx="147600" cy="579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90120" y="5823000"/>
              <a:ext cx="130680" cy="831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21160" y="5739480"/>
              <a:ext cx="127440" cy="831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13880" y="5823000"/>
              <a:ext cx="107280" cy="9792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621160" y="5725080"/>
              <a:ext cx="104040" cy="975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00560" y="5725080"/>
              <a:ext cx="238320" cy="17748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13880" y="5735880"/>
              <a:ext cx="211320" cy="15588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47360" y="5757840"/>
              <a:ext cx="144360" cy="11232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57440" y="5765040"/>
              <a:ext cx="123840" cy="9396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67520" y="5783040"/>
              <a:ext cx="104040" cy="7956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55800" y="5351760"/>
              <a:ext cx="134280" cy="612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960160" y="5501160"/>
            <a:ext cx="2327040" cy="1349280"/>
            <a:chOff x="5960160" y="5501160"/>
            <a:chExt cx="2327040" cy="1349280"/>
          </a:xfrm>
        </p:grpSpPr>
        <p:sp>
          <p:nvSpPr>
            <p:cNvPr id="474" name=""/>
            <p:cNvSpPr/>
            <p:nvPr/>
          </p:nvSpPr>
          <p:spPr>
            <a:xfrm rot="20689200">
              <a:off x="6029280" y="5792760"/>
              <a:ext cx="2193120" cy="78408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20689200">
              <a:off x="6027840" y="5787360"/>
              <a:ext cx="2193120" cy="78408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20689200">
              <a:off x="6024240" y="5774400"/>
              <a:ext cx="2193120" cy="78408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20689200">
              <a:off x="6023880" y="5774400"/>
              <a:ext cx="2193120" cy="78156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20689200">
              <a:off x="6121080" y="5804280"/>
              <a:ext cx="1954800" cy="69840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689200">
              <a:off x="6167160" y="5821200"/>
              <a:ext cx="1854000" cy="66096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20689200">
              <a:off x="7945560" y="5651640"/>
              <a:ext cx="118800" cy="399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20689200">
              <a:off x="7926480" y="5664960"/>
              <a:ext cx="118800" cy="399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20689200">
              <a:off x="7910280" y="5675040"/>
              <a:ext cx="118800" cy="399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20689200">
              <a:off x="7895160" y="5687280"/>
              <a:ext cx="118800" cy="399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20689200">
              <a:off x="7879680" y="5697360"/>
              <a:ext cx="118800" cy="424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20689200">
              <a:off x="7863840" y="5709960"/>
              <a:ext cx="118800" cy="399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20689200">
              <a:off x="7844760" y="5720400"/>
              <a:ext cx="118800" cy="428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689200">
              <a:off x="7829640" y="5733000"/>
              <a:ext cx="118800" cy="424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689200">
              <a:off x="7813440" y="5743080"/>
              <a:ext cx="118800" cy="424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689200">
              <a:off x="7794720" y="5756400"/>
              <a:ext cx="118800" cy="424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20689200">
              <a:off x="7779600" y="5768640"/>
              <a:ext cx="118800" cy="428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20689200">
              <a:off x="7760520" y="5779080"/>
              <a:ext cx="122400" cy="453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20689200">
              <a:off x="7744680" y="5792040"/>
              <a:ext cx="118800" cy="424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20689200">
              <a:off x="7725960" y="5805360"/>
              <a:ext cx="122400" cy="42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20689200">
              <a:off x="7710120" y="5815080"/>
              <a:ext cx="118800" cy="453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0689200">
              <a:off x="7691400" y="5828400"/>
              <a:ext cx="122400" cy="453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20689200">
              <a:off x="7672320" y="5841720"/>
              <a:ext cx="122400" cy="42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20689200">
              <a:off x="7656840" y="5854680"/>
              <a:ext cx="118800" cy="428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20689200">
              <a:off x="7637760" y="5865120"/>
              <a:ext cx="122400" cy="453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0689200">
              <a:off x="7619040" y="5878440"/>
              <a:ext cx="122400" cy="453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20689200">
              <a:off x="7599960" y="5892120"/>
              <a:ext cx="122400" cy="453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20689200">
              <a:off x="7581240" y="5905440"/>
              <a:ext cx="122400" cy="453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0689200">
              <a:off x="7566120" y="5918400"/>
              <a:ext cx="118800" cy="453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20689200">
              <a:off x="7547040" y="5929200"/>
              <a:ext cx="118800" cy="4788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20689200">
              <a:off x="7528320" y="5942160"/>
              <a:ext cx="122400" cy="478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20689200">
              <a:off x="7509600" y="5955480"/>
              <a:ext cx="122400" cy="48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20689200">
              <a:off x="7490880" y="5968800"/>
              <a:ext cx="122400" cy="478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20689200">
              <a:off x="7472160" y="5982480"/>
              <a:ext cx="122400" cy="478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20689200">
              <a:off x="7449480" y="5996880"/>
              <a:ext cx="122400" cy="48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20689200">
              <a:off x="7431120" y="6010200"/>
              <a:ext cx="122400" cy="478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20689200">
              <a:off x="7412040" y="6023520"/>
              <a:ext cx="122400" cy="478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20689200">
              <a:off x="7393320" y="6037200"/>
              <a:ext cx="122400" cy="478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20689200">
              <a:off x="7371360" y="6050520"/>
              <a:ext cx="126000" cy="5076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20689200">
              <a:off x="7352640" y="6064560"/>
              <a:ext cx="122400" cy="5076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20689200">
              <a:off x="7333920" y="6078240"/>
              <a:ext cx="122400" cy="5076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20689200">
              <a:off x="7311960" y="6094800"/>
              <a:ext cx="122400" cy="48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20689200">
              <a:off x="7289640" y="6108840"/>
              <a:ext cx="126000" cy="4788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689200">
              <a:off x="7270920" y="6122880"/>
              <a:ext cx="122400" cy="5076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0689200">
              <a:off x="7248960" y="6136920"/>
              <a:ext cx="126000" cy="5076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20689200">
              <a:off x="7230240" y="6150960"/>
              <a:ext cx="122400" cy="5076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20689200">
              <a:off x="7208280" y="6164280"/>
              <a:ext cx="126000" cy="532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0689200">
              <a:off x="7186320" y="6181560"/>
              <a:ext cx="126000" cy="5076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0689200">
              <a:off x="7167960" y="6194880"/>
              <a:ext cx="122400" cy="532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20689200">
              <a:off x="7145640" y="6209280"/>
              <a:ext cx="122400" cy="532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20689200">
              <a:off x="7124400" y="6226200"/>
              <a:ext cx="122400" cy="532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20689200">
              <a:off x="7102080" y="6240240"/>
              <a:ext cx="126000" cy="532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20689200">
              <a:off x="7079760" y="6255000"/>
              <a:ext cx="126000" cy="5580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0689200">
              <a:off x="7057800" y="6271560"/>
              <a:ext cx="126000" cy="532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0689200">
              <a:off x="7036200" y="6286680"/>
              <a:ext cx="122400" cy="5580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20689200">
              <a:off x="7014240" y="6303600"/>
              <a:ext cx="122400" cy="532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20689200">
              <a:off x="6989040" y="6318360"/>
              <a:ext cx="126000" cy="5616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20689200">
              <a:off x="6967440" y="6335280"/>
              <a:ext cx="126000" cy="5580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20689200">
              <a:off x="6944760" y="6349680"/>
              <a:ext cx="126000" cy="5616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0689200">
              <a:off x="6923160" y="6366960"/>
              <a:ext cx="122400" cy="5616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89200">
              <a:off x="6897960" y="6382080"/>
              <a:ext cx="126000" cy="5868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0689200">
              <a:off x="6876000" y="6399360"/>
              <a:ext cx="122400" cy="5616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0689200">
              <a:off x="6850800" y="6414120"/>
              <a:ext cx="126000" cy="5868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0689200">
              <a:off x="6825600" y="6432120"/>
              <a:ext cx="126000" cy="5868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0689200">
              <a:off x="6804000" y="6448680"/>
              <a:ext cx="126000" cy="5868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689200">
              <a:off x="6778800" y="6466680"/>
              <a:ext cx="126000" cy="5868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689200">
              <a:off x="6753600" y="6482160"/>
              <a:ext cx="126000" cy="615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689200">
              <a:off x="6728400" y="6499800"/>
              <a:ext cx="126000" cy="615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20689200">
              <a:off x="6703560" y="6517080"/>
              <a:ext cx="129600" cy="615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20689200">
              <a:off x="6678360" y="6535080"/>
              <a:ext cx="129600" cy="612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689200">
              <a:off x="6653160" y="6553080"/>
              <a:ext cx="129600" cy="612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689200">
              <a:off x="6627960" y="6570720"/>
              <a:ext cx="129600" cy="612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89200">
              <a:off x="6603120" y="6589440"/>
              <a:ext cx="126000" cy="615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689200">
              <a:off x="7568640" y="5613480"/>
              <a:ext cx="349560" cy="14436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689200">
              <a:off x="7554960" y="5603040"/>
              <a:ext cx="375120" cy="14724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89200">
              <a:off x="7556040" y="5595840"/>
              <a:ext cx="360720" cy="14148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89200">
              <a:off x="7558560" y="5596920"/>
              <a:ext cx="345960" cy="1335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89200">
              <a:off x="7561440" y="5597640"/>
              <a:ext cx="335160" cy="1256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689200">
              <a:off x="7562880" y="5697000"/>
              <a:ext cx="1764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689200">
              <a:off x="7569720" y="5695200"/>
              <a:ext cx="1764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89200">
              <a:off x="7578000" y="569808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20689200">
              <a:off x="7585560" y="5698800"/>
              <a:ext cx="21240" cy="3204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20689200">
              <a:off x="7597440" y="570096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20689200">
              <a:off x="7604640" y="5699520"/>
              <a:ext cx="1764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20689200">
              <a:off x="7616520" y="5702040"/>
              <a:ext cx="1764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20689200">
              <a:off x="7620480" y="570312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20689200">
              <a:off x="7632360" y="570528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689200">
              <a:off x="7639200" y="570348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0689200">
              <a:off x="7667280" y="570996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20689200">
              <a:off x="7674120" y="570780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0689200">
              <a:off x="7705440" y="5713560"/>
              <a:ext cx="1764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0689200">
              <a:off x="7709400" y="5715000"/>
              <a:ext cx="21600" cy="3204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0689200">
              <a:off x="7721280" y="571464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20689200">
              <a:off x="7728120" y="571536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689200">
              <a:off x="7740360" y="5717880"/>
              <a:ext cx="1764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0689200">
              <a:off x="7747920" y="5718960"/>
              <a:ext cx="17640" cy="3204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689200">
              <a:off x="7756200" y="571896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0689200">
              <a:off x="7763400" y="571968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0689200">
              <a:off x="7775280" y="5722200"/>
              <a:ext cx="1764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0689200">
              <a:off x="7782480" y="5723640"/>
              <a:ext cx="17640" cy="3204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0689200">
              <a:off x="7419240" y="5708520"/>
              <a:ext cx="357120" cy="14724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20689200">
              <a:off x="7401960" y="5696280"/>
              <a:ext cx="382320" cy="15516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689200">
              <a:off x="7403400" y="5691600"/>
              <a:ext cx="371160" cy="14436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0689200">
              <a:off x="7409160" y="5689440"/>
              <a:ext cx="353160" cy="13896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20689200">
              <a:off x="7412040" y="5690520"/>
              <a:ext cx="342720" cy="13104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20689200">
              <a:off x="7409880" y="57934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0689200">
              <a:off x="7417440" y="579420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20689200">
              <a:off x="7428960" y="579636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0689200">
              <a:off x="7436160" y="579456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0689200">
              <a:off x="7448400" y="5797080"/>
              <a:ext cx="18000" cy="3744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20689200">
              <a:off x="7452000" y="579888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0689200">
              <a:off x="7464240" y="580104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0689200">
              <a:off x="7471440" y="580176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20689200">
              <a:off x="7482960" y="580140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20689200">
              <a:off x="7490520" y="580212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20689200">
              <a:off x="7518240" y="580824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20689200">
              <a:off x="7525080" y="580644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20689200">
              <a:off x="7556760" y="5812200"/>
              <a:ext cx="17640" cy="3744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20689200">
              <a:off x="7561080" y="581364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20689200">
              <a:off x="7572240" y="581328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20689200">
              <a:off x="7579800" y="581400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20689200">
              <a:off x="7591680" y="581652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20689200">
              <a:off x="7599240" y="5817240"/>
              <a:ext cx="1800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20689200">
              <a:off x="7607880" y="582048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20689200">
              <a:off x="7615080" y="582084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20689200">
              <a:off x="7626600" y="582084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20689200">
              <a:off x="7634160" y="582120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20689200">
              <a:off x="7263720" y="5808240"/>
              <a:ext cx="363960" cy="15228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20689200">
              <a:off x="7246800" y="5795280"/>
              <a:ext cx="393120" cy="15768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20689200">
              <a:off x="7251120" y="5788080"/>
              <a:ext cx="374760" cy="15228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20689200">
              <a:off x="7253640" y="5788800"/>
              <a:ext cx="360720" cy="14184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0689200">
              <a:off x="7255800" y="5787000"/>
              <a:ext cx="349560" cy="13644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0689200">
              <a:off x="7254000" y="589392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0689200">
              <a:off x="7261560" y="589464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20689200">
              <a:off x="7273800" y="589716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0689200">
              <a:off x="7280640" y="589536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20689200">
              <a:off x="7292520" y="58978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0689200">
              <a:off x="7299720" y="589824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20689200">
              <a:off x="7308360" y="5901480"/>
              <a:ext cx="2124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20689200">
              <a:off x="7315560" y="590220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20689200">
              <a:off x="7327800" y="590436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20689200">
              <a:off x="7335360" y="590544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20689200">
              <a:off x="7362720" y="590904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20689200">
              <a:off x="7369920" y="5909400"/>
              <a:ext cx="25200" cy="34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20689200">
              <a:off x="7401960" y="591516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0689200">
              <a:off x="7408800" y="591300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20689200">
              <a:off x="7420680" y="591552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20689200">
              <a:off x="7428240" y="59158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20689200">
              <a:off x="7436880" y="59194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20689200">
              <a:off x="7444080" y="591984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20689200">
              <a:off x="7456320" y="592236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689200">
              <a:off x="7463160" y="592056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689200">
              <a:off x="7475400" y="59227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0689200">
              <a:off x="7482600" y="592380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689200">
              <a:off x="7101720" y="5909040"/>
              <a:ext cx="375120" cy="15768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689200">
              <a:off x="7087680" y="5895360"/>
              <a:ext cx="400320" cy="16308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0689200">
              <a:off x="7088400" y="5888880"/>
              <a:ext cx="385920" cy="15516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689200">
              <a:off x="7094520" y="5886720"/>
              <a:ext cx="367920" cy="14976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0689200">
              <a:off x="7097040" y="5887800"/>
              <a:ext cx="356760" cy="14148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689200">
              <a:off x="7095600" y="599796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20689200">
              <a:off x="7102800" y="599868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20689200">
              <a:off x="7114680" y="5998680"/>
              <a:ext cx="2124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20689200">
              <a:off x="7121880" y="599904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20689200">
              <a:off x="7130520" y="600192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20689200">
              <a:off x="7138080" y="6002640"/>
              <a:ext cx="25200" cy="3744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20689200">
              <a:off x="7149960" y="60055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0689200">
              <a:off x="7157520" y="600624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20689200">
              <a:off x="7169400" y="600876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20689200">
              <a:off x="7176600" y="600912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20689200">
              <a:off x="7204320" y="601308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20689200">
              <a:off x="7211520" y="601380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20689200">
              <a:off x="7243920" y="601920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20689200">
              <a:off x="7251120" y="601992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20689200">
              <a:off x="7262640" y="60220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20689200">
              <a:off x="7269840" y="60202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0689200">
              <a:off x="7281720" y="602280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20689200">
              <a:off x="7285680" y="6023880"/>
              <a:ext cx="25200" cy="3744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689200">
              <a:off x="7297920" y="602640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20689200">
              <a:off x="7305120" y="60274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689200">
              <a:off x="7317360" y="6029280"/>
              <a:ext cx="2124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20689200">
              <a:off x="7324920" y="603036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0689200">
              <a:off x="6936120" y="6014160"/>
              <a:ext cx="382320" cy="16020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20689200">
              <a:off x="6922800" y="6000480"/>
              <a:ext cx="407520" cy="1684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20689200">
              <a:off x="6923160" y="5991120"/>
              <a:ext cx="393120" cy="16308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20689200">
              <a:off x="6928920" y="5991120"/>
              <a:ext cx="378720" cy="15228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20689200">
              <a:off x="6934680" y="5988960"/>
              <a:ext cx="364320" cy="14688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20689200">
              <a:off x="6930360" y="6104160"/>
              <a:ext cx="2124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20689200">
              <a:off x="6937560" y="61048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20689200">
              <a:off x="6949800" y="610704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20689200">
              <a:off x="6957000" y="610776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0689200">
              <a:off x="6969240" y="61099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20689200">
              <a:off x="6976080" y="61081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20689200">
              <a:off x="6985080" y="611064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20689200">
              <a:off x="6992280" y="611172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20689200">
              <a:off x="7004520" y="6114600"/>
              <a:ext cx="2160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20689200">
              <a:off x="7011720" y="61153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20689200">
              <a:off x="7043040" y="61207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20689200">
              <a:off x="7050240" y="61210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20689200">
              <a:off x="7078320" y="612684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20689200">
              <a:off x="7085880" y="6127920"/>
              <a:ext cx="25200" cy="3708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20689200">
              <a:off x="7098120" y="613008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20689200">
              <a:off x="7105320" y="613116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20689200">
              <a:off x="7117920" y="6133680"/>
              <a:ext cx="2124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0689200">
              <a:off x="7124760" y="613440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20689200">
              <a:off x="7137360" y="613656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20689200">
              <a:off x="7144200" y="613476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20689200">
              <a:off x="7156080" y="61369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20689200">
              <a:off x="7163640" y="613800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20689200">
              <a:off x="6765120" y="6123600"/>
              <a:ext cx="389160" cy="16596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20689200">
              <a:off x="6750360" y="6107040"/>
              <a:ext cx="418320" cy="17388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20689200">
              <a:off x="6754680" y="6097320"/>
              <a:ext cx="400320" cy="1684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689200">
              <a:off x="6756840" y="6097680"/>
              <a:ext cx="389160" cy="15768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20689200">
              <a:off x="6763320" y="6098040"/>
              <a:ext cx="374760" cy="14976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20689200">
              <a:off x="6758640" y="621360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20689200">
              <a:off x="6766200" y="621432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20689200">
              <a:off x="6778440" y="6217560"/>
              <a:ext cx="2160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20689200">
              <a:off x="6785640" y="621756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20689200">
              <a:off x="6797520" y="622044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20689200">
              <a:off x="6805080" y="622116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20689200">
              <a:off x="6816960" y="6223320"/>
              <a:ext cx="2124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20689200">
              <a:off x="6824160" y="622440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20689200">
              <a:off x="6836400" y="622656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20689200">
              <a:off x="6843600" y="622728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20689200">
              <a:off x="6871680" y="623268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20689200">
              <a:off x="6879240" y="6234120"/>
              <a:ext cx="25200" cy="3708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20689200">
              <a:off x="6910920" y="623916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20689200">
              <a:off x="6918120" y="6237720"/>
              <a:ext cx="2124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20689200">
              <a:off x="6930000" y="6240240"/>
              <a:ext cx="2160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20689200">
              <a:off x="6937560" y="624060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20689200">
              <a:off x="6949440" y="6243120"/>
              <a:ext cx="21600" cy="4284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20689200">
              <a:off x="6957000" y="624384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20689200">
              <a:off x="6969240" y="6246360"/>
              <a:ext cx="2124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20689200">
              <a:off x="6976440" y="62467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20689200">
              <a:off x="6985080" y="624960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20689200">
              <a:off x="6995880" y="624996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20689200">
              <a:off x="6590160" y="6233760"/>
              <a:ext cx="396360" cy="17100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20689200">
              <a:off x="6572880" y="6217560"/>
              <a:ext cx="429120" cy="18180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20689200">
              <a:off x="6576480" y="6207480"/>
              <a:ext cx="414360" cy="17388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20689200">
              <a:off x="6582600" y="6210720"/>
              <a:ext cx="396360" cy="16020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20689200">
              <a:off x="6588000" y="6208200"/>
              <a:ext cx="382320" cy="15516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20689200">
              <a:off x="6580440" y="632880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20689200">
              <a:off x="6591240" y="6326640"/>
              <a:ext cx="2124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20689200">
              <a:off x="6599880" y="633168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20689200">
              <a:off x="6611040" y="633240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20689200">
              <a:off x="6619680" y="633492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20689200">
              <a:off x="6626880" y="633528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20689200">
              <a:off x="6639120" y="633780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20689200">
              <a:off x="6646320" y="633816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20689200">
              <a:off x="6658560" y="634068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20689200">
              <a:off x="6666120" y="634176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20689200">
              <a:off x="6697440" y="634680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20689200">
              <a:off x="6705000" y="634752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20689200">
              <a:off x="6736320" y="635292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20689200">
              <a:off x="6744240" y="635364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20689200">
              <a:off x="6756120" y="6356880"/>
              <a:ext cx="2160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20689200">
              <a:off x="6764040" y="635652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20689200">
              <a:off x="6775920" y="6359400"/>
              <a:ext cx="21600" cy="4536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20689200">
              <a:off x="6783480" y="6360120"/>
              <a:ext cx="21600" cy="4284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20689200">
              <a:off x="6795360" y="6362280"/>
              <a:ext cx="21600" cy="4536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20689200">
              <a:off x="6802920" y="6363360"/>
              <a:ext cx="2160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20689200">
              <a:off x="6815160" y="6365880"/>
              <a:ext cx="21240" cy="4536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20689200">
              <a:off x="6822360" y="6366240"/>
              <a:ext cx="2124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20689200">
              <a:off x="6405480" y="6349320"/>
              <a:ext cx="407520" cy="17640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20689200">
              <a:off x="6391800" y="6332400"/>
              <a:ext cx="436320" cy="18720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20689200">
              <a:off x="6395040" y="6321960"/>
              <a:ext cx="421920" cy="17928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20689200">
              <a:off x="6397200" y="6323400"/>
              <a:ext cx="407520" cy="1684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20689200">
              <a:off x="6403680" y="6320880"/>
              <a:ext cx="393120" cy="16308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20689200">
              <a:off x="6399000" y="644436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20689200">
              <a:off x="6406560" y="644544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20689200">
              <a:off x="6418800" y="644760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20689200">
              <a:off x="6426000" y="644832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20689200">
              <a:off x="6438600" y="645300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20689200">
              <a:off x="6446160" y="645372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20689200">
              <a:off x="6458400" y="645624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20689200">
              <a:off x="6465960" y="645660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20689200">
              <a:off x="6478200" y="645912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20689200">
              <a:off x="6485400" y="646020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20689200">
              <a:off x="6517080" y="646524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20689200">
              <a:off x="6524280" y="646596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20689200">
              <a:off x="6556680" y="647388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20689200">
              <a:off x="6563880" y="647460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20689200">
              <a:off x="6576120" y="647712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20689200">
              <a:off x="6583680" y="647784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20689200">
              <a:off x="6595560" y="648000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20689200">
              <a:off x="6603120" y="648072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20689200">
              <a:off x="6615360" y="648324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20689200">
              <a:off x="6622560" y="648360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20689200">
              <a:off x="6635160" y="648612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20689200">
              <a:off x="6642000" y="648648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20689200">
              <a:off x="6214680" y="6468480"/>
              <a:ext cx="418320" cy="18468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20689200">
              <a:off x="6201000" y="6452280"/>
              <a:ext cx="447120" cy="19260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20689200">
              <a:off x="6204240" y="6441840"/>
              <a:ext cx="432720" cy="18432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20689200">
              <a:off x="6210000" y="6442560"/>
              <a:ext cx="414720" cy="17388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20689200">
              <a:off x="6215760" y="6440040"/>
              <a:ext cx="400320" cy="1684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20689200">
              <a:off x="6208560" y="656856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20689200">
              <a:off x="6215760" y="656892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20689200">
              <a:off x="6228000" y="657144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20689200">
              <a:off x="6235920" y="657216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20689200">
              <a:off x="6247800" y="6574320"/>
              <a:ext cx="25200" cy="478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20689200">
              <a:off x="6255360" y="657540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20689200">
              <a:off x="6267600" y="658008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20689200">
              <a:off x="6278760" y="6580440"/>
              <a:ext cx="2160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20689200">
              <a:off x="6287400" y="658296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20689200">
              <a:off x="6298200" y="6583680"/>
              <a:ext cx="21600" cy="4284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20689200">
              <a:off x="6327000" y="659160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20689200">
              <a:off x="6337800" y="6592320"/>
              <a:ext cx="2124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20689200">
              <a:off x="6369480" y="659664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20689200">
              <a:off x="6377040" y="659736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20689200">
              <a:off x="6389280" y="6599880"/>
              <a:ext cx="25200" cy="482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20689200">
              <a:off x="6396840" y="660060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20689200">
              <a:off x="6409080" y="660528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20689200">
              <a:off x="6416640" y="660636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20689200">
              <a:off x="6428880" y="660852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20689200">
              <a:off x="6436080" y="660924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20689200">
              <a:off x="6448680" y="6611760"/>
              <a:ext cx="25200" cy="478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20689200">
              <a:off x="6455880" y="661212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flipV="1">
            <a:off x="4572000" y="3184560"/>
            <a:ext cx="2438280" cy="450720"/>
          </a:xfrm>
          <a:prstGeom prst="line">
            <a:avLst/>
          </a:prstGeom>
          <a:ln w="5724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572000" y="3635280"/>
            <a:ext cx="2362320" cy="1000080"/>
          </a:xfrm>
          <a:prstGeom prst="line">
            <a:avLst/>
          </a:prstGeom>
          <a:ln w="5724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572000" y="2796840"/>
            <a:ext cx="2438280" cy="304920"/>
          </a:xfrm>
          <a:prstGeom prst="line">
            <a:avLst/>
          </a:prstGeom>
          <a:ln w="5724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504960" y="4854600"/>
            <a:ext cx="685800" cy="533520"/>
          </a:xfrm>
          <a:prstGeom prst="line">
            <a:avLst/>
          </a:prstGeom>
          <a:ln w="5724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029200" y="4092480"/>
            <a:ext cx="1627200" cy="1981440"/>
          </a:xfrm>
          <a:prstGeom prst="line">
            <a:avLst/>
          </a:prstGeom>
          <a:ln w="5724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8D2F-4A41-477F-8B93-1CEFEB13E2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331640" y="207720"/>
            <a:ext cx="784836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os superiores da pirâmide de memória, por possuírem a maior velocidade de transferência dentro do sistema (menor tempo de acesso), menor capacidade de armazenamento e maior cust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órias rápidas usadas em execução de instruções dentro do processador (objetivo: minimizar os acessos às memórias externas ao processador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C90D-F1A1-4A7B-83DC-1DC87C5C14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</dc:creator>
  <dc:description/>
  <dc:language>en-US</dc:language>
  <cp:lastModifiedBy> </cp:lastModifiedBy>
  <dcterms:modified xsi:type="dcterms:W3CDTF">2009-07-08T00:24:58Z</dcterms:modified>
  <cp:revision>234</cp:revision>
  <dc:subject/>
  <dc:title>Slide sem título </dc:title>
</cp:coreProperties>
</file>