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449-920E-4E4A-8C95-62A3655A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C26-3FC1-4D97-A65B-201FD17F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E5B-92C5-40E1-BC55-24FA4BE9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F76-6F77-4E66-9430-9A301837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BEF-3935-4EB3-A045-95E14F02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258-B2A9-4605-B630-B04C6567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CF8-1079-41FB-B0B0-8A8FC3EA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F7B-C3B8-467F-97DA-BFC6E334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0B5-56DA-4850-A9DF-DD5D3FFE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4DB-7E6B-4F7B-9453-B388E69D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C8E-794A-41B1-AB4B-C6F71206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EE1-37AF-49E9-9034-B18F50F6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54320" y="7380360"/>
            <a:ext cx="23464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8920" y="7380360"/>
            <a:ext cx="3194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9280" y="7380360"/>
            <a:ext cx="23464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999999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AD63D-91F6-40F3-B1B3-423E48125F50}" type="slidenum">
              <a:rPr b="0" lang="en-GB" sz="1200" spc="-1" strike="noStrike">
                <a:solidFill>
                  <a:srgbClr val="99999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Inteligência Artificial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rador de Árvores de Deci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tilizando o algoritmo I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lton Céz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ugo Pa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más de Bar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Introdução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isualizar a representação textual da árvore;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isualizar a representação gráfica da árvore;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xecutar a árvore de decisão;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estar a árvore de decisão contra outra base de dado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Algoritmo ID3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ductive Decision Tree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senvolvido na Universidade de Sidney, por J. Ross Quinlan, em 1975 (apresentado no livro Machine Learning, vol. 1)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era uma árvore de decisão a partir de uma base de dados e a utiliza para classificar futuros elementos que venham a surgi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Algoritmo ID3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scolhe primeiro os atributos que melhor dividem as amostras da base de dados, escolhas estas baseadas em duas propriedades estatísticas: entropia e ganho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 entropia mede o grau de impureza de um sistema, ou seja, o quão desordenado o mesmo está;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 ganho mede o peso que determinado atributo tem para classificar um element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Algoritmo ID3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9920" y="1414080"/>
            <a:ext cx="9072360" cy="614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Se a base de dados tem entropia zero, cria-se um nó folha com o valor da classificação que restou e retorna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Seleciona-se o atributo com maior ganho e cria-se um nó na árvore para o mesmo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Se N é nulo, então este será o nó raiz; caso contrário, N será o pai deste nó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Para cada possível valor V, deste atributo T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 algn="just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Cria-se um subconjunto da base de dados, onde T=V;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 algn="just">
              <a:lnSpc>
                <a:spcPct val="93000"/>
              </a:lnSpc>
              <a:spcAft>
                <a:spcPts val="1137"/>
              </a:spcAft>
              <a:buClr>
                <a:srgbClr val="cccc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Chama-se o algoritmo recursivamente com o subconjunto da base de dados e o nó criado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6e6e6"/>
                </a:solidFill>
                <a:latin typeface="Times New Roman"/>
              </a:rPr>
              <a:t>Demonstração</a:t>
            </a:r>
            <a:endParaRPr b="1" lang="en-US" sz="4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lton 20311030</dc:creator>
  <dc:description/>
  <dc:language>en-US</dc:language>
  <cp:lastModifiedBy/>
  <cp:revision>0</cp:revision>
  <dc:subject/>
  <dc:title/>
</cp:coreProperties>
</file>